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6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7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992B-9B26-4E06-9B7E-F96B67D81D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&gt;&gt; Ab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바탕"/>
              </a:rPr>
              <a:t>Kurze Information über das Programm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2B201-19E3-4D19-B990-9026250D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1AC72-D216-4D10-A662-5CC98B9E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8C42D-843F-475C-B781-900121DF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0CA82-772C-48D3-9863-D27AFCA1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818AA-BE76-45F1-87FF-FE57B738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67757-B2BE-4593-8531-A29FFD6C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D0EE9-457A-42A6-A51A-6AEFB53E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8763B-3D67-46A6-AAC9-E3332423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B779F-7B7E-4F84-845D-C9F566C0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33B96-4DDA-4066-8002-30091AB6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2C64F-DF34-4C87-BD7C-D82883D2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0AAD3-D0AC-4B1D-8560-CB1F251B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1"/>
          </p:nvPr>
        </p:nvSpPr>
        <p:spPr>
          <a:xfrm>
            <a:off x="1294920" y="6581160"/>
            <a:ext cx="11430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b2b2b2"/>
                </a:solidFill>
                <a:latin typeface="Tahoma"/>
              </a:rPr>
              <a:t>07.11.2002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18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7772400" y="655668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3BA6-38B3-4E00-BC43-94EEC6E734BA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3886200" y="65815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b2b2b2"/>
                </a:solidFill>
                <a:latin typeface="Tahoma"/>
              </a:rPr>
              <a:t>Studienprojekt WS 2001/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3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4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C183-72E6-424E-A11E-2855422EC0B5}" type="slidenum">
              <a:rPr b="1" lang="en-GB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eise.de/ix/artikel/2000/11/100/bild3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Monotype Corsiva"/>
              </a:rPr>
              <a:t>Studienprojekt</a:t>
            </a:r>
            <a:br>
              <a:rPr sz="4000"/>
            </a:br>
            <a:r>
              <a:rPr b="0" lang="de-DE" sz="2800" spc="-1" strike="noStrike">
                <a:solidFill>
                  <a:srgbClr val="ffffff"/>
                </a:solidFill>
                <a:latin typeface="Monotype Corsiva"/>
              </a:rPr>
              <a:t>Automatische Umsetzung eines Registers 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Monotype Corsiva"/>
              </a:rPr>
              <a:t>in ein XML Schema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Monotype Corsiva"/>
              </a:rPr>
              <a:t>RTF DirectoryConver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790960" y="4876920"/>
            <a:ext cx="28191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9ffcc"/>
                </a:solidFill>
                <a:latin typeface="Tahoma"/>
              </a:rPr>
              <a:t>Heejung Park </a:t>
            </a:r>
            <a:endParaRPr b="0" lang="en-US" sz="1800" spc="-1" strike="noStrike">
              <a:solidFill>
                <a:srgbClr val="339966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9ffcc"/>
                </a:solidFill>
                <a:latin typeface="Tahoma"/>
              </a:rPr>
              <a:t>Computerlinguistik </a:t>
            </a:r>
            <a:endParaRPr b="0" lang="en-US" sz="1800" spc="-1" strike="noStrike">
              <a:solidFill>
                <a:srgbClr val="339966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9ffcc"/>
                </a:solidFill>
                <a:latin typeface="Tahoma"/>
              </a:rPr>
              <a:t>Universität Heidelberg</a:t>
            </a:r>
            <a:endParaRPr b="0" lang="en-US" sz="1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990720" y="1447920"/>
          <a:ext cx="7772400" cy="4681440"/>
        </p:xfrm>
        <a:graphic>
          <a:graphicData uri="http://schemas.openxmlformats.org/drawingml/2006/table">
            <a:tbl>
              <a:tblPr/>
              <a:tblGrid>
                <a:gridCol w="838080"/>
                <a:gridCol w="609480"/>
                <a:gridCol w="1371600"/>
                <a:gridCol w="1524240"/>
                <a:gridCol w="1904760"/>
                <a:gridCol w="1524240"/>
              </a:tblGrid>
              <a:tr h="28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ntex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ey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VAL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KOMMA_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RSON &amp; NA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R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UBLISH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_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HERAUSGEBER _V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26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Benjamin, Robert Spie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(Hrsg.) </a:t>
                      </a:r>
                      <a:r>
                        <a:rPr b="0" i="1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 Am an American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8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?xml version="1.0" encoding="ISO-8859-1" standalone="yes"?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r>
                        <a:rPr b="0" lang="en-GB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Thomas_Mann</a:t>
                      </a:r>
                      <a:r>
                        <a:rPr b="0" lang="en-GB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PERSON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NAME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njamin, Robert Spiero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/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NAME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HERAUSGEBER_VON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WERK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     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TITEL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 Am an American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/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TITEL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/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WERK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/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HERAUSGEBER_VON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/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PERSON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.….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/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Thomas_Mann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28600" y="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Auszug Literaturverzeichnis als XML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de-DE" sz="3200" spc="-1" strike="noStrike">
                <a:solidFill>
                  <a:srgbClr val="ffffff"/>
                </a:solidFill>
                <a:latin typeface="Monotype Corsiva"/>
              </a:rPr>
              <a:t>Person: (Hrsg.) 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990720" y="1295280"/>
          <a:ext cx="7645320" cy="4973760"/>
        </p:xfrm>
        <a:graphic>
          <a:graphicData uri="http://schemas.openxmlformats.org/drawingml/2006/table">
            <a:tbl>
              <a:tblPr/>
              <a:tblGrid>
                <a:gridCol w="820440"/>
                <a:gridCol w="487440"/>
                <a:gridCol w="1079640"/>
                <a:gridCol w="914400"/>
                <a:gridCol w="914400"/>
                <a:gridCol w="1371600"/>
                <a:gridCol w="990720"/>
                <a:gridCol w="10666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ntex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ey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VAL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KOMMA_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RSON &amp; NA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R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UBLISH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_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HERAUSGEBER _V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R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UBLISH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_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HERAUSGEBER _V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AUTOR &amp; NA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44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Brandes, Georg </a:t>
                      </a:r>
                      <a:r>
                        <a:rPr b="1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23, 77, 276, 308, 314, 324, 340, 4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(Hrsg.) Henrik Ibsen</a:t>
                      </a:r>
                      <a:r>
                        <a:rPr b="0" i="1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, Sämtliche Werke in deutscher Sprache </a:t>
                      </a:r>
                      <a:r>
                        <a:rPr b="1" i="1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r>
                        <a:rPr b="0" i="1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144</a:t>
                      </a:r>
                      <a:r>
                        <a:rPr b="0" i="1" lang="en-GB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53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?xml version="1.0" encoding="ISO-8859-1" standalone="yes"?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PERSON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NAME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ndes, Georg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/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NAME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HERAUSGEBER_VON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AUTOR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     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NAME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nrik Ibsen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/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NAME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  &lt;/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AUTOR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WERK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     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TITEL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ämtliche Werke in deutscher Sprache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/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TITEL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  &lt;/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WERK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/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HERAUSGEBER_VON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/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PERSON</a:t>
                      </a: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28600" y="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Auszug Literaturverzeichnis als XML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de-DE" sz="3200" spc="-1" strike="noStrike">
                <a:solidFill>
                  <a:srgbClr val="ffffff"/>
                </a:solidFill>
                <a:latin typeface="Monotype Corsiva"/>
              </a:rPr>
              <a:t>Person: (Hrsg.)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990720" y="1295280"/>
          <a:ext cx="7772400" cy="5189760"/>
        </p:xfrm>
        <a:graphic>
          <a:graphicData uri="http://schemas.openxmlformats.org/drawingml/2006/table">
            <a:tbl>
              <a:tblPr/>
              <a:tblGrid>
                <a:gridCol w="1066680"/>
                <a:gridCol w="743040"/>
                <a:gridCol w="3524040"/>
                <a:gridCol w="2438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ntex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ey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VAL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KOMMA_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RSON &amp; NA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R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R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STRING_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R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ITALIC_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R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ITALIC_STRING_STRING_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884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Brandes, Georg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23, 77, 276,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08, 314, 324, 340, 401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13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Antwort an Georges Clemenceau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En afhandling on aristokratisk radikalisme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6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?xml version="1.0" encoding="ISO-8859-1" standalone="yes"?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PERSON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NAME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ndes, Georg 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/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NAME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WERK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     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TITEL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 </a:t>
                      </a: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wort an Georges Clemenceau 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/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TITEL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/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WERK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WERK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     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TITEL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 </a:t>
                      </a: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 afhandling on aristokratisk radikalisme 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/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TITEL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/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WERK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/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PERSON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28600" y="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Auszug Literaturverzeichnis als XML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de-DE" sz="3200" spc="-1" strike="noStrike">
                <a:solidFill>
                  <a:srgbClr val="ffffff"/>
                </a:solidFill>
                <a:latin typeface="Monotype Corsiva"/>
              </a:rPr>
              <a:t>Person &amp; We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990720" y="1295280"/>
          <a:ext cx="7696080" cy="5105520"/>
        </p:xfrm>
        <a:graphic>
          <a:graphicData uri="http://schemas.openxmlformats.org/drawingml/2006/table">
            <a:tbl>
              <a:tblPr/>
              <a:tblGrid>
                <a:gridCol w="901440"/>
                <a:gridCol w="611280"/>
                <a:gridCol w="558720"/>
                <a:gridCol w="560520"/>
                <a:gridCol w="2527200"/>
                <a:gridCol w="2536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ntex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ey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VAL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APITEL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EILWERK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/ STRING_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UNTERKAPITEL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/ STRING_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ABSCHNITT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4236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Die Bibel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(biblisch)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14, 26, 109, 136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48, 67, 269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117, 120, 166f., 169, 214, 3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Das Alte Testament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309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194,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. Buch Mose (Genesis)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01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51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207,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08, 412, 429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186, 199,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49, 4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Josephs-Geschichte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214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119, 185-1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. Buch Mose (Exodu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Die Zehn Gebote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211-213, 227,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Das Neue Testament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Evangelien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109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166, 207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168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121f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nach Matthäus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46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98, 430, 443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366, 449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21, 493, 519, 54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nach Markus </a:t>
                      </a:r>
                      <a:r>
                        <a:rPr b="1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365f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nach Lukas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82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98, 301, 3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nach Johannes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297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29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78, 421, 425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66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9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28600" y="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Auszug Literaturverzeichnis als XML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de-DE" sz="3200" spc="-1" strike="noStrike">
                <a:solidFill>
                  <a:srgbClr val="ffffff"/>
                </a:solidFill>
                <a:latin typeface="Monotype Corsiva"/>
              </a:rPr>
              <a:t>Werk : Bi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838080" y="1295280"/>
          <a:ext cx="7848720" cy="5257800"/>
        </p:xfrm>
        <a:graphic>
          <a:graphicData uri="http://schemas.openxmlformats.org/drawingml/2006/table">
            <a:tbl>
              <a:tblPr/>
              <a:tblGrid>
                <a:gridCol w="852480"/>
                <a:gridCol w="628920"/>
                <a:gridCol w="576000"/>
                <a:gridCol w="576360"/>
                <a:gridCol w="2603520"/>
                <a:gridCol w="2611440"/>
              </a:tblGrid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ntex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ey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VAL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APITEL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EILWERK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8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/ STRING_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UNTERKAPITEL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/ STRING_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ABSCHNITT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5319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WERK misc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="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blisch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"&gt;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      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e Bib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           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EILWERK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s Alte Testament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                 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UNTERKAPITEL misc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="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nesis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"&gt;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Buch Mose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                             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ABSCHNITT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Josephs-Geschichte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ABSCHNITT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                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UNTERKAP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                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UNTERKAPITEL misc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="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xodus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"&gt;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Buch Mose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                             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ABSCHNITT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e Zehn Gebote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 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ABSCHNITT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                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UNTERKAP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            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EILWERK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s Neue Testament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                 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UNTERKAP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vangelien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                            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ABSCHNITT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ach Matthäus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ABSCHNITT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                             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ABSCHNITT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ach Markus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 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ABSCHNITT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  <a:ea typeface="Courier New"/>
                        </a:rPr>
                        <a:t>     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TEILWERK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WERK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              .......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28600" y="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Auszug Literaturverzeichnis als XML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de-DE" sz="3200" spc="-1" strike="noStrike">
                <a:solidFill>
                  <a:srgbClr val="ffffff"/>
                </a:solidFill>
                <a:latin typeface="Monotype Corsiva"/>
              </a:rPr>
              <a:t>Werk : Bibel.x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990720" y="1295280"/>
          <a:ext cx="7696080" cy="5286600"/>
        </p:xfrm>
        <a:graphic>
          <a:graphicData uri="http://schemas.openxmlformats.org/drawingml/2006/table">
            <a:tbl>
              <a:tblPr/>
              <a:tblGrid>
                <a:gridCol w="1143000"/>
                <a:gridCol w="761760"/>
                <a:gridCol w="914400"/>
                <a:gridCol w="914400"/>
                <a:gridCol w="914400"/>
                <a:gridCol w="990720"/>
                <a:gridCol w="990720"/>
                <a:gridCol w="1066680"/>
              </a:tblGrid>
              <a:tr h="3729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ey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VAL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 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E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AUTOR &amp; NA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 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E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M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APITEL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AUTOR &amp; NA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8506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i="1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Die Braut von Messina 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s. Friedrich Schil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i="1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Amerika, du hast es besser 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s. Johann Wolfgang von Goethe, </a:t>
                      </a:r>
                      <a:r>
                        <a:rPr b="0" i="1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Zahme Xenien, IX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53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?xml version="1.0" encoding="ISO-8859-1" standalone="yes"?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e Braut von Messina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AUTOR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   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iedrich Schiller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AUTOR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KAP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erika, du hast es besser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AUTOR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   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hann Wolfgang von Goeth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AUTOR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    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   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hme Xenien, IX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.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KAP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28600" y="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Auszug Literaturverzeichnis als XML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de-DE" sz="3200" spc="-1" strike="noStrike">
                <a:solidFill>
                  <a:srgbClr val="ffffff"/>
                </a:solidFill>
                <a:latin typeface="Monotype Corsiva"/>
              </a:rPr>
              <a:t>Verweis: Werk &amp;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914400" y="1295280"/>
          <a:ext cx="7754760" cy="5181840"/>
        </p:xfrm>
        <a:graphic>
          <a:graphicData uri="http://schemas.openxmlformats.org/drawingml/2006/table">
            <a:tbl>
              <a:tblPr/>
              <a:tblGrid>
                <a:gridCol w="2438280"/>
                <a:gridCol w="1067040"/>
                <a:gridCol w="1488960"/>
                <a:gridCol w="1406520"/>
                <a:gridCol w="1353960"/>
              </a:tblGrid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ey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VAL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KOMMA_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E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RSON &amp; NAM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ERWEIS &amp; NA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85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Buff, Charlotte s. Charlotte Kest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Esmarch, Constanze s. Constanze Stor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Ferdinand, Prinz von Preußen s. August Ferdina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6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?xml version="1.0" encoding="ISO-8859-1" standalone="yes"?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PERSON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Buff, Charlotte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VERWEI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Charlotte Kestner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VERWEI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PERSON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PERSON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Esmarch, Constanze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VERWEI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Constanze Storm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VERWEI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PERSON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PERSON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Ferdinand, Prinz von Preussen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VERWEI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August Ferdinand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VERWEI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PERSON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228600" y="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Auszug Literaturverzeichnis als XML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de-DE" sz="3200" spc="-1" strike="noStrike">
                <a:solidFill>
                  <a:srgbClr val="ffffff"/>
                </a:solidFill>
                <a:latin typeface="Monotype Corsiva"/>
              </a:rPr>
              <a:t>Verweis: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Auszug Literaturverzeichnis als XML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de-DE" sz="3200" spc="-1" strike="noStrike">
                <a:solidFill>
                  <a:srgbClr val="ffffff"/>
                </a:solidFill>
                <a:latin typeface="Monotype Corsiva"/>
              </a:rPr>
              <a:t>Verweis: Sonsti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14400" y="1297080"/>
          <a:ext cx="7772400" cy="5300640"/>
        </p:xfrm>
        <a:graphic>
          <a:graphicData uri="http://schemas.openxmlformats.org/drawingml/2006/table">
            <a:tbl>
              <a:tblPr/>
              <a:tblGrid>
                <a:gridCol w="1189080"/>
                <a:gridCol w="487440"/>
                <a:gridCol w="2844720"/>
                <a:gridCol w="1744560"/>
                <a:gridCol w="1506600"/>
              </a:tblGrid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ey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VAL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E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ONSTIGES &amp; BEZEICHNU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REFERENZ &amp; NA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97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Aisopos s. Äso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American Rescue Committee s. Emergency Rescue Committe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Antonius s. Marcus Antoni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Beinecke Rare Book and Manuscript Library s. Yale Coll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6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Aisopos</a:t>
                      </a:r>
                      <a:r>
                        <a:rPr b="1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REFERENZ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Äsop</a:t>
                      </a:r>
                      <a:r>
                        <a:rPr b="1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REFERENZ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American Rescue Committee</a:t>
                      </a:r>
                      <a:r>
                        <a:rPr b="1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REFERENZ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Emergency Rescue</a:t>
                      </a: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Committee</a:t>
                      </a:r>
                      <a:r>
                        <a:rPr b="1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REFERENZ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Antonius</a:t>
                      </a:r>
                      <a:r>
                        <a:rPr b="1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REFERENZ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Marcus Antonius</a:t>
                      </a:r>
                      <a:r>
                        <a:rPr b="1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REFERENZ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Beinecke Rare Book and Manuscript Library</a:t>
                      </a:r>
                      <a:r>
                        <a:rPr b="1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REFERENZ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Yale Collection</a:t>
                      </a:r>
                      <a:r>
                        <a:rPr b="1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REFERENZ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Auszug Literaturverzeichnis als XML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Monotype Corsiva"/>
              </a:rPr>
              <a:t>Figur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14400" y="1297080"/>
          <a:ext cx="7467480" cy="5179680"/>
        </p:xfrm>
        <a:graphic>
          <a:graphicData uri="http://schemas.openxmlformats.org/drawingml/2006/table">
            <a:tbl>
              <a:tblPr/>
              <a:tblGrid>
                <a:gridCol w="1143000"/>
                <a:gridCol w="468360"/>
                <a:gridCol w="790560"/>
                <a:gridCol w="874800"/>
                <a:gridCol w="1066680"/>
                <a:gridCol w="990720"/>
                <a:gridCol w="1066680"/>
                <a:gridCol w="1066680"/>
              </a:tblGrid>
              <a:tr h="2818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ey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VAL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 KOMMA_ 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E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M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 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FIGUR &amp; NA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AUTOR &amp; NA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NA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E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M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 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FIGUR &amp; NAM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RSON &amp; AUT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NA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9925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Afanasjewa, Sinaida s. Fjodor M. Dostojewski,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Onkelchens Tra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Alba s. Friedrich Schiller,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Don Carl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Albrecht s. Thomas Mann,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Königliche Hohe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Aschenbach, Gustav von s. Thomas Mann,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Der Tod in Venedi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20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FIGUR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Afanasjewa, Sinaida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AUTOR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 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Fjodor M. Dostojewski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AUTOR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 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Onkelchens Traum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FIGUR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FIGUR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Alba</a:t>
                      </a:r>
                      <a:r>
                        <a:rPr b="1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NAM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PERSON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 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AUTOR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Friedrich Schiller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AUTOR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PERSON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 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Don Carlos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Tahoma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FIGUR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Auszug Literaturverzeichnis als XML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Monotype Corsiva"/>
              </a:rPr>
              <a:t>Sonstiges 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14400" y="1295280"/>
          <a:ext cx="7467480" cy="5079960"/>
        </p:xfrm>
        <a:graphic>
          <a:graphicData uri="http://schemas.openxmlformats.org/drawingml/2006/table">
            <a:tbl>
              <a:tblPr/>
              <a:tblGrid>
                <a:gridCol w="4343400"/>
                <a:gridCol w="3124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ey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VAL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</a:tr>
              <a:tr h="65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ONSTIGES &amp; BEZEICHNU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189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AEG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94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Bauschan (Hund)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125,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41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Abraham (biblische Gestalt)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190, 196,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American Academy of Arts and Sciences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135,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Annenkow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3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AE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 misc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="</a:t>
                      </a:r>
                      <a:r>
                        <a:rPr b="1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Hund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"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Bauschan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 misc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="</a:t>
                      </a:r>
                      <a:r>
                        <a:rPr b="1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biblische </a:t>
                      </a:r>
                      <a:r>
                        <a:rPr b="1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G</a:t>
                      </a:r>
                      <a:r>
                        <a:rPr b="1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estalt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"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Abraham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American Academy of Arts and Scienc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Annenkow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Automatische Umsetzung eines Registers nach X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Book Antiqua"/>
              </a:rPr>
              <a:t>Teilprojekt des Thomas Mann Projek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3276720"/>
            <a:ext cx="4419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Thomas Mann Proje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4267080"/>
            <a:ext cx="70106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Book Antiqua"/>
              </a:rPr>
              <a:t>von S. Fischer Ver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Book Antiqua"/>
              </a:rPr>
              <a:t>GKFA als Buchausgabe und elektronische Ausga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Book Antiqua"/>
              </a:rPr>
              <a:t>Texte sollen SGML/XML-strukturiert vorliegen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Auszug Literaturverzeichnis als XML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Monotype Corsiva"/>
              </a:rPr>
              <a:t>Sonstiges 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14400" y="1297080"/>
          <a:ext cx="7897680" cy="5027400"/>
        </p:xfrm>
        <a:graphic>
          <a:graphicData uri="http://schemas.openxmlformats.org/drawingml/2006/table">
            <a:tbl>
              <a:tblPr/>
              <a:tblGrid>
                <a:gridCol w="1084320"/>
                <a:gridCol w="487440"/>
                <a:gridCol w="1095120"/>
                <a:gridCol w="914400"/>
                <a:gridCol w="838440"/>
                <a:gridCol w="1447560"/>
                <a:gridCol w="838440"/>
                <a:gridCol w="1191960"/>
              </a:tblGrid>
              <a:tr h="28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NTEX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EY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VAL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ONSTIGES &amp; BEZEICHNU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ONSTIG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_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ONSTIG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_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EILWERK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ONSTIG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UBLISH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HERAUSGEBER_V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ONSTIG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UBLISH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ITA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HERAUSGEBER_V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AUTOR &amp; NA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5855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Aristopha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              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Die Vögel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Brockha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              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Konversations-Lexikon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34f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Homer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32f., 58, 62, 67, 151,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18f.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32, 48, 268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155, 322,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47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              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lias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32,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19, 350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48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47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65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37, 123, 125,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95, 3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              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Odyssee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118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63f.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47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V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65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V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120f., 125,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Elimandus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2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              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Gesta Romanorum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202,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                   </a:t>
                      </a:r>
                      <a:r>
                        <a:rPr b="0" i="1" lang="de-DE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on der wundersamen Gnade Gottes und der Geburt des seligen Papstes Greg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Auszug Literaturverzeichnis als XML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Monotype Corsiva"/>
              </a:rPr>
              <a:t>Sonstiges 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14400" y="1297080"/>
          <a:ext cx="7897680" cy="5103720"/>
        </p:xfrm>
        <a:graphic>
          <a:graphicData uri="http://schemas.openxmlformats.org/drawingml/2006/table">
            <a:tbl>
              <a:tblPr/>
              <a:tblGrid>
                <a:gridCol w="1084320"/>
                <a:gridCol w="487440"/>
                <a:gridCol w="1095120"/>
                <a:gridCol w="914400"/>
                <a:gridCol w="838440"/>
                <a:gridCol w="1143000"/>
                <a:gridCol w="1143000"/>
                <a:gridCol w="11919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NTEX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EY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VAL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ONSTIGES &amp; BEZEICHNU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ONSTIG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_ITAL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TIT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ONSTIG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_ITAL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EILWERK &amp; TIT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ONSTIG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UBLISH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ITAL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HERAUSGEBER_V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TIT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ONSTIG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A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UBLISH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ITAL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HERAUSGEBER_V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AUTOR &amp; N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TIT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46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Aristophan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Die Vög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Brockhau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Konversations-Lexikon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Homer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Ilia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Odyssee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Elimandu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BEZEICHNUNG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Gesta Romanorum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TEIL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Von der wundersamen Gnade Gottes und der Gebur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                                           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Courier New"/>
                        </a:rPr>
                        <a:t>des seligen Papstes Gregor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TITEL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 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TEIL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      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WERK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 &lt;/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ahoma"/>
                          <a:ea typeface="Courier New"/>
                        </a:rPr>
                        <a:t>SONSTIGES</a:t>
                      </a: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ahoma"/>
                          <a:ea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Java Programm: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914400"/>
            <a:ext cx="4343400" cy="449568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990720"/>
            <a:ext cx="2514600" cy="73404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Book Antiqua"/>
              </a:rPr>
              <a:t>Directory Conversio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1371600" cy="73404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Extern Input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685800"/>
            <a:ext cx="1371600" cy="73404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Extern Output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733920"/>
            <a:ext cx="1143000" cy="1295280"/>
          </a:xfrm>
          <a:prstGeom prst="flowChartMagneticDisk">
            <a:avLst/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2362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Meta.cs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981080"/>
            <a:ext cx="1143000" cy="1295640"/>
          </a:xfrm>
          <a:prstGeom prst="flowChartMagneticDisk">
            <a:avLst/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Meta.cs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4343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XYZ.rt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81080" y="236232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67480" y="3581280"/>
            <a:ext cx="1143000" cy="1295640"/>
          </a:xfrm>
          <a:prstGeom prst="flowChartMagneticDisk">
            <a:avLst/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4191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XYZ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1676520"/>
            <a:ext cx="2590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ta.csv wird geles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MetaTable (Hashtable) zur Weiterverarbeitung abgeleg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2666880"/>
            <a:ext cx="167616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297180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2666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Klasse:  MetaT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4191120"/>
            <a:ext cx="99072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3733920"/>
            <a:ext cx="35812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TF Datei wird zeilenweise verarbeit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s aus MetaTable lesen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gebnis der Verarbeitung ist das XML Dokument mit den Tags aus der MetaTab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91440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324480" y="3276720"/>
            <a:ext cx="0" cy="91440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4191120"/>
            <a:ext cx="76212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Java Programm: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914400"/>
            <a:ext cx="4343400" cy="449568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990720"/>
            <a:ext cx="3124440" cy="73404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Book Antiqua"/>
              </a:rPr>
              <a:t>XML Document Separation (Filtering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609480"/>
            <a:ext cx="1371600" cy="73404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Extern Input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15200" y="685800"/>
            <a:ext cx="1371600" cy="73404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Extern Output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2209680"/>
            <a:ext cx="1143000" cy="1295640"/>
          </a:xfrm>
          <a:prstGeom prst="flowChartMagneticDisk">
            <a:avLst/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7432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Gesamt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467480" y="2209680"/>
            <a:ext cx="1143000" cy="1295640"/>
          </a:xfrm>
          <a:prstGeom prst="flowChartMagneticDisk">
            <a:avLst/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91520" y="274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Filter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2819520"/>
            <a:ext cx="99072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2819520"/>
            <a:ext cx="76212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1981080"/>
            <a:ext cx="289548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durch die Konvertierung erzeugte XML Dokument wird zeilenweise gelesen und gemäss dem selektierten/ausgewählten Filter verarbeitet (gefiltert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gebnis ist ein neues XML Dokument mit den gefilterten Dat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54864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971800" y="914400"/>
            <a:ext cx="129528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JMenub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981080" y="1143000"/>
            <a:ext cx="990720" cy="15228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5486400"/>
            <a:ext cx="1828800" cy="73404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JTextArea für Zustandbericht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2819520"/>
            <a:ext cx="3962160" cy="825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3b8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Java Klassenbibliothek SWING</a:t>
            </a:r>
            <a:r>
              <a:rPr b="0" lang="de-DE" sz="18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380880"/>
            <a:ext cx="129528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JFr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68580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809880"/>
            <a:ext cx="137160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JSplitPa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4191120"/>
            <a:ext cx="1219320" cy="167616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04920" y="2895480"/>
            <a:ext cx="1218960" cy="91440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1676520"/>
            <a:ext cx="144792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JScrollPa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828800"/>
            <a:ext cx="11430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 Menu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486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800600" y="914400"/>
            <a:ext cx="1905120" cy="3988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Book Antiqua"/>
              </a:rPr>
              <a:t>JMenuB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00600" y="1371600"/>
            <a:ext cx="190512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JMe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209320" y="1143000"/>
            <a:ext cx="2590920" cy="15228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1905120"/>
            <a:ext cx="190512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JMenuI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219320" y="1371240"/>
            <a:ext cx="3581280" cy="22860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514600" y="2133720"/>
            <a:ext cx="2286000" cy="7596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3276720"/>
            <a:ext cx="3962160" cy="825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3b8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Java Klassenbibliothek SWING</a:t>
            </a:r>
            <a:r>
              <a:rPr b="0" lang="de-DE" sz="18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 File &gt; Select RTF File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486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267080" y="1523880"/>
            <a:ext cx="2514600" cy="398880"/>
          </a:xfrm>
          <a:prstGeom prst="rect">
            <a:avLst/>
          </a:prstGeom>
          <a:gradFill rotWithShape="0">
            <a:gsLst>
              <a:gs pos="0">
                <a:srgbClr val="8765a9"/>
              </a:gs>
              <a:gs pos="100000">
                <a:srgbClr val="cc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Book Antiqua"/>
              </a:rPr>
              <a:t>Select RTF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2361960" y="1599840"/>
            <a:ext cx="1904760" cy="15228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093760"/>
            <a:ext cx="3733920" cy="946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0c8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Auswählen eines Literaturverzeichnisses im RTF-Format, das der Benutzer automatisch nach XML-Format konvertieren will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2819520"/>
            <a:ext cx="3733920" cy="7333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0c8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Klasse: JFileChoo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Methode: showOpenDialo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Methode: getSelectedFil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048120" y="3276720"/>
            <a:ext cx="4838760" cy="3114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3276720"/>
            <a:ext cx="2514600" cy="3988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Book Antiqua"/>
              </a:rPr>
              <a:t>JFileChoo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3505320"/>
            <a:ext cx="53352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3733920"/>
            <a:ext cx="220968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showOpenDia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943600"/>
            <a:ext cx="167652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FileFilter: RT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6095880"/>
            <a:ext cx="15238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4114800"/>
            <a:ext cx="220968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setFileFil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File &gt; Select Meta Data File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486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267080" y="1523880"/>
            <a:ext cx="2819520" cy="703800"/>
          </a:xfrm>
          <a:prstGeom prst="rect">
            <a:avLst/>
          </a:prstGeom>
          <a:gradFill rotWithShape="0">
            <a:gsLst>
              <a:gs pos="0">
                <a:srgbClr val="9973c0"/>
              </a:gs>
              <a:gs pos="100000">
                <a:srgbClr val="cc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Book Antiqua"/>
              </a:rPr>
              <a:t>Select Meta Data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361960" y="1752480"/>
            <a:ext cx="190476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2209680"/>
            <a:ext cx="3962520" cy="15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3b8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Selektieren einer Metadate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Metadatei definiert Struktur für XML-Date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Metadatei enthält &lt;tags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&lt;tags&gt; sind vordefiniert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       </a:t>
            </a: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META.csv / META_EN.cs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Vom Benutzer änderba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als CSV gespeiche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3733920"/>
            <a:ext cx="3962520" cy="7333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0c8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Konstruktor: JFileChoo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Methode: showOpenDialo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Methode: getSelectedFil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4838760" cy="3114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57200" y="5257800"/>
            <a:ext cx="167652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FileFilter: CS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33720" y="5410080"/>
            <a:ext cx="121896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File &gt; Create empty XML Document (Conversion)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4864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267080" y="1523880"/>
            <a:ext cx="2667240" cy="580680"/>
          </a:xfrm>
          <a:prstGeom prst="rect">
            <a:avLst/>
          </a:prstGeom>
          <a:gradFill rotWithShape="0">
            <a:gsLst>
              <a:gs pos="0">
                <a:srgbClr val="9973c0"/>
              </a:gs>
              <a:gs pos="100000">
                <a:srgbClr val="cc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Book Antiqua"/>
              </a:rPr>
              <a:t>Create empty XML Document (Convers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505320" y="1752480"/>
            <a:ext cx="761760" cy="22860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2209680"/>
            <a:ext cx="3962520" cy="7333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3b8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Anlegen einer neuen XML-Date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Name und Verzeichnis können vom Benutzer bestimmt werden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2895480"/>
            <a:ext cx="3962520" cy="7333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0c8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Klasse: JFileChoo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Methode: showSaveDialo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Methode: getSelectedFil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362320" y="2819520"/>
            <a:ext cx="4838760" cy="31147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5486400"/>
            <a:ext cx="213372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FileFilter: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33720" y="5638680"/>
            <a:ext cx="11430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File &gt; Select XML Document (Separation)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4864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267080" y="1523880"/>
            <a:ext cx="2971800" cy="703800"/>
          </a:xfrm>
          <a:prstGeom prst="rect">
            <a:avLst/>
          </a:prstGeom>
          <a:gradFill rotWithShape="0">
            <a:gsLst>
              <a:gs pos="0">
                <a:srgbClr val="9973c0"/>
              </a:gs>
              <a:gs pos="100000">
                <a:srgbClr val="cc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Book Antiqua"/>
              </a:rPr>
              <a:t>Select XML Document (Sepa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14800" y="2590920"/>
            <a:ext cx="3962520" cy="946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3b8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Auswählen einer XML-Datei, die nach ihren Klassen gefiltert werden so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XML Datei muss vorhanden s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Meta-Datei auswähl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14800" y="3505320"/>
            <a:ext cx="3962520" cy="7333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0c8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Klasse: JFileChoo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Methode: showOpenDialo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Methode: getSelectedFil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352680" y="1905120"/>
            <a:ext cx="914400" cy="30456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362320" y="2971800"/>
            <a:ext cx="4838760" cy="3114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5638680"/>
            <a:ext cx="213372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FileFilter: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91320"/>
            <a:ext cx="99036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5486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Modell der Metastrukt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7400" y="59432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6699"/>
                </a:solidFill>
                <a:uFillTx/>
                <a:latin typeface="Book Antiqua"/>
                <a:hlinkClick r:id="rId1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Book Antiqua"/>
              </a:rPr>
              <a:t>Abbild: Schema des semantischen Netzes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bild3" descr=""/>
          <p:cNvPicPr/>
          <p:nvPr/>
        </p:nvPicPr>
        <p:blipFill>
          <a:blip r:embed="rId2"/>
          <a:stretch/>
        </p:blipFill>
        <p:spPr>
          <a:xfrm>
            <a:off x="1905120" y="2286000"/>
            <a:ext cx="5565600" cy="3451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File &gt; Filter Classes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267080" y="1523880"/>
            <a:ext cx="2667240" cy="398880"/>
          </a:xfrm>
          <a:prstGeom prst="rect">
            <a:avLst/>
          </a:prstGeom>
          <a:gradFill rotWithShape="0">
            <a:gsLst>
              <a:gs pos="0">
                <a:srgbClr val="9973c0"/>
              </a:gs>
              <a:gs pos="100000">
                <a:srgbClr val="cc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Book Antiqua"/>
              </a:rPr>
              <a:t>Filter 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133720"/>
            <a:ext cx="3733920" cy="1159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3b8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Filter auswählen</a:t>
            </a: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Filter aus Metadaten erzeu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Aufbau Metatabel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Aus Metatabelle wird FilterList aufgebau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Filterdialog aufbauen und anzeigen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971800" y="1828800"/>
            <a:ext cx="1295280" cy="60948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3276720"/>
            <a:ext cx="3733920" cy="946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0c8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Klasse: JOptionPa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MetaTable.ja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Abgeleitet von Hasht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Methode: fillMetaT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124080" y="3886200"/>
            <a:ext cx="2724120" cy="17334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3962520"/>
            <a:ext cx="2286000" cy="398880"/>
          </a:xfrm>
          <a:prstGeom prst="rect">
            <a:avLst/>
          </a:prstGeom>
          <a:gradFill rotWithShape="0">
            <a:gsLst>
              <a:gs pos="0">
                <a:srgbClr val="c04c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Book Antiqua"/>
              </a:rPr>
              <a:t>JOptionP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419720"/>
            <a:ext cx="2057400" cy="368280"/>
          </a:xfrm>
          <a:prstGeom prst="rect">
            <a:avLst/>
          </a:prstGeom>
          <a:gradFill rotWithShape="0">
            <a:gsLst>
              <a:gs pos="0">
                <a:srgbClr val="c04c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showInputDia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0" y="4114800"/>
            <a:ext cx="99072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54864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File &gt; Filter ClassesII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2819520"/>
            <a:ext cx="2057400" cy="4597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Book Antiqua"/>
              </a:rPr>
              <a:t>Filterli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23880" y="3276720"/>
            <a:ext cx="2057400" cy="368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11111"/>
                </a:solidFill>
                <a:latin typeface="Book Antiqua"/>
              </a:rPr>
              <a:t>Per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429000" y="2286000"/>
            <a:ext cx="1752480" cy="106668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3657600"/>
            <a:ext cx="2057400" cy="368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11111"/>
                </a:solidFill>
                <a:latin typeface="Book Antiqua"/>
              </a:rPr>
              <a:t>We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429000" y="2438280"/>
            <a:ext cx="1752480" cy="129564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3880" y="4038480"/>
            <a:ext cx="2057400" cy="6426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11111"/>
                </a:solidFill>
                <a:latin typeface="Book Antiqua"/>
              </a:rPr>
              <a:t>Herausgeber_v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428640" y="2895480"/>
            <a:ext cx="1676520" cy="121932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886200" y="3429000"/>
            <a:ext cx="2724120" cy="17334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990720" y="1905120"/>
            <a:ext cx="1371600" cy="380880"/>
          </a:xfrm>
          <a:prstGeom prst="ellipse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81480" y="1905120"/>
            <a:ext cx="1524240" cy="304560"/>
          </a:xfrm>
          <a:prstGeom prst="ellipse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38088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onotype Corsiva"/>
              </a:rPr>
              <a:t>MetaTable                Hashtabl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5335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3500000"/>
          </a:gra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1981080" y="1905120"/>
            <a:ext cx="5639040" cy="3862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File &gt; Exit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4864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267080" y="1523880"/>
            <a:ext cx="1447920" cy="398880"/>
          </a:xfrm>
          <a:prstGeom prst="rect">
            <a:avLst/>
          </a:prstGeom>
          <a:gradFill rotWithShape="0">
            <a:gsLst>
              <a:gs pos="0">
                <a:srgbClr val="9973c0"/>
              </a:gs>
              <a:gs pos="100000">
                <a:srgbClr val="cc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Book Antiqua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114800" y="2133720"/>
            <a:ext cx="3733920" cy="307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3b8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Programm-Ex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114800" y="2438280"/>
            <a:ext cx="3733920" cy="520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0c8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Klasse: JOptionPa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Methode: showConfirmDialo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971800" y="1828800"/>
            <a:ext cx="1295280" cy="83808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2676240" cy="11145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04920" y="3581280"/>
            <a:ext cx="2438280" cy="3988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Book Antiqua"/>
              </a:rPr>
              <a:t>JOptionP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43200" y="3657600"/>
            <a:ext cx="8380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4038480"/>
            <a:ext cx="251460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showConfirmDia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Run &gt; Convert RTF to XML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1523880"/>
            <a:ext cx="3048120" cy="398880"/>
          </a:xfrm>
          <a:prstGeom prst="rect">
            <a:avLst/>
          </a:prstGeom>
          <a:gradFill rotWithShape="0">
            <a:gsLst>
              <a:gs pos="0">
                <a:srgbClr val="9973c0"/>
              </a:gs>
              <a:gs pos="100000">
                <a:srgbClr val="cc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Book Antiqua"/>
              </a:rPr>
              <a:t>Convert RTF to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14800" y="2133720"/>
            <a:ext cx="3733920" cy="520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3b8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Umsetzung RTF Verzeichnis nach X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Klasse </a:t>
            </a:r>
            <a:r>
              <a:rPr b="1" i="1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Converter</a:t>
            </a: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 wird aufgeruf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14800" y="2590920"/>
            <a:ext cx="3733920" cy="1159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0c8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Bestätigungsdialo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Klasse: JOptionPa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Methode: showConfirmDialo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Umsetzungsdialo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Klasse: JOptionPa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2819160" y="1523880"/>
            <a:ext cx="1447560" cy="15264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4920" y="3581280"/>
            <a:ext cx="2438280" cy="3988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Book Antiqua"/>
              </a:rPr>
              <a:t>JOptionP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2714400" cy="1114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743200" y="3657600"/>
            <a:ext cx="8380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4038480"/>
            <a:ext cx="251460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showConfirmDia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3352680" y="3581280"/>
            <a:ext cx="2571840" cy="13622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85800" y="4343400"/>
            <a:ext cx="251460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createDia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Run &gt; Convert RTF to XML II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1523880"/>
            <a:ext cx="3048120" cy="398880"/>
          </a:xfrm>
          <a:prstGeom prst="rect">
            <a:avLst/>
          </a:prstGeom>
          <a:gradFill rotWithShape="0">
            <a:gsLst>
              <a:gs pos="0">
                <a:srgbClr val="9973c0"/>
              </a:gs>
              <a:gs pos="100000">
                <a:srgbClr val="cc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Book Antiqua"/>
              </a:rPr>
              <a:t>Convert RTF to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2819160" y="1523880"/>
            <a:ext cx="1447560" cy="15264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380880"/>
            <a:ext cx="2133360" cy="825480"/>
          </a:xfrm>
          <a:prstGeom prst="rect">
            <a:avLst/>
          </a:prstGeom>
          <a:gradFill rotWithShape="0">
            <a:gsLst>
              <a:gs pos="0">
                <a:srgbClr val="86a8a8"/>
              </a:gs>
              <a:gs pos="100000">
                <a:srgbClr val="cc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Klasse: Conve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5334120" cy="3654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209680" y="2819520"/>
            <a:ext cx="1067040" cy="38088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2819520"/>
            <a:ext cx="1067040" cy="38088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2438280" y="3581280"/>
          <a:ext cx="4800600" cy="1893600"/>
        </p:xfrm>
        <a:graphic>
          <a:graphicData uri="http://schemas.openxmlformats.org/drawingml/2006/table">
            <a:tbl>
              <a:tblPr/>
              <a:tblGrid>
                <a:gridCol w="2361960"/>
                <a:gridCol w="243864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Aufbau MetaTable (HashTabl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ey    9x“;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Komma_St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rson &amp; Na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rsonTabString_Ital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erk &amp; Tit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.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.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2743200" y="1981080"/>
            <a:ext cx="3733920" cy="825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MetaTable                Hashtabl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67080" y="21337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3500000"/>
          </a:gra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Run &gt; Convert RTF to XML III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1523880"/>
            <a:ext cx="3048120" cy="398880"/>
          </a:xfrm>
          <a:prstGeom prst="rect">
            <a:avLst/>
          </a:prstGeom>
          <a:gradFill rotWithShape="0">
            <a:gsLst>
              <a:gs pos="0">
                <a:srgbClr val="9973c0"/>
              </a:gs>
              <a:gs pos="100000">
                <a:srgbClr val="cc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Book Antiqua"/>
              </a:rPr>
              <a:t>Convert RTF to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819160" y="1523880"/>
            <a:ext cx="1447560" cy="15264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380880"/>
            <a:ext cx="2133360" cy="825480"/>
          </a:xfrm>
          <a:prstGeom prst="rect">
            <a:avLst/>
          </a:prstGeom>
          <a:gradFill rotWithShape="0">
            <a:gsLst>
              <a:gs pos="0">
                <a:srgbClr val="86a8a8"/>
              </a:gs>
              <a:gs pos="100000">
                <a:srgbClr val="cc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Klasse: Conve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1981080"/>
            <a:ext cx="3733920" cy="45972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Klasse XMLDocument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66880" y="2743200"/>
            <a:ext cx="3733920" cy="520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3b8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Schreibt XML-Date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Die &lt;tags&gt; von MetaTable übernomm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3276720"/>
            <a:ext cx="3733920" cy="307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3b8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BufferedWrite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Run &gt; Convert RTF to XML IV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4267080" y="1523880"/>
            <a:ext cx="3048120" cy="398880"/>
          </a:xfrm>
          <a:prstGeom prst="rect">
            <a:avLst/>
          </a:prstGeom>
          <a:gradFill rotWithShape="0">
            <a:gsLst>
              <a:gs pos="0">
                <a:srgbClr val="9973c0"/>
              </a:gs>
              <a:gs pos="100000">
                <a:srgbClr val="cc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Book Antiqua"/>
              </a:rPr>
              <a:t>Convert RTF to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2819160" y="1523880"/>
            <a:ext cx="1447560" cy="15264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380880"/>
            <a:ext cx="2133360" cy="825480"/>
          </a:xfrm>
          <a:prstGeom prst="rect">
            <a:avLst/>
          </a:prstGeom>
          <a:gradFill rotWithShape="0">
            <a:gsLst>
              <a:gs pos="0">
                <a:srgbClr val="86a8a8"/>
              </a:gs>
              <a:gs pos="100000">
                <a:srgbClr val="cc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Klasse: Conve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1981080"/>
            <a:ext cx="3733920" cy="45972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Klasse RTFToken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2743200"/>
            <a:ext cx="4267440" cy="1159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3b8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RTFTokenizer ist abgeleitet von StringTokeniz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Zerlegen RTF-Datei in Toke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Token ist hier ein Element der RTF-Datei, das ein Eintrag des XML Dokuments sein wir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Fett, Italic, Tab.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Run &gt; Convert RTF to XML V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1523880"/>
            <a:ext cx="3048120" cy="398880"/>
          </a:xfrm>
          <a:prstGeom prst="rect">
            <a:avLst/>
          </a:prstGeom>
          <a:gradFill rotWithShape="0">
            <a:gsLst>
              <a:gs pos="0">
                <a:srgbClr val="9973c0"/>
              </a:gs>
              <a:gs pos="100000">
                <a:srgbClr val="cc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Book Antiqua"/>
              </a:rPr>
              <a:t>Convert RTF to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2819160" y="1523880"/>
            <a:ext cx="1447560" cy="15264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4295880" cy="54673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4896000" y="990720"/>
            <a:ext cx="4248000" cy="54576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429000" y="2286000"/>
            <a:ext cx="1752480" cy="53352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2438280"/>
            <a:ext cx="2514600" cy="152424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76520" y="2666880"/>
            <a:ext cx="3581280" cy="175284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33720" y="2819520"/>
            <a:ext cx="3124080" cy="220968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4876920" y="990720"/>
            <a:ext cx="4267080" cy="5438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52280" y="2209680"/>
            <a:ext cx="3886200" cy="1219320"/>
          </a:xfrm>
          <a:prstGeom prst="rect">
            <a:avLst/>
          </a:pr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038480" y="2438280"/>
            <a:ext cx="838440" cy="685800"/>
          </a:xfrm>
          <a:prstGeom prst="rightArrow">
            <a:avLst>
              <a:gd name="adj1" fmla="val 50000"/>
              <a:gd name="adj2" fmla="val 30564"/>
            </a:avLst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Run &gt; Separate First Level with Fil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4267080" y="1523880"/>
            <a:ext cx="3810240" cy="703800"/>
          </a:xfrm>
          <a:prstGeom prst="rect">
            <a:avLst/>
          </a:prstGeom>
          <a:gradFill rotWithShape="0">
            <a:gsLst>
              <a:gs pos="0">
                <a:srgbClr val="9973c0"/>
              </a:gs>
              <a:gs pos="100000">
                <a:srgbClr val="cc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Book Antiqua"/>
              </a:rPr>
              <a:t>Separate First Level with Fil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657600" y="2057400"/>
            <a:ext cx="4724280" cy="946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3b8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Voraussetzu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Vorhanden Literaturverzeichnis im XML-Form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Auswahl der Filterklas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Ergebnis wird als Filtername.xml gespeiche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657600" y="2971800"/>
            <a:ext cx="4724280" cy="520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0c8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Aufbau der MetaT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Klasse </a:t>
            </a:r>
            <a:r>
              <a:rPr b="0" i="1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Separator </a:t>
            </a: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wird aufgeruf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048120" y="1676520"/>
            <a:ext cx="1218960" cy="7596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3581280"/>
            <a:ext cx="2438280" cy="3988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Book Antiqua"/>
              </a:rPr>
              <a:t>JOptionP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2695320" cy="11142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2743200" y="3657600"/>
            <a:ext cx="8380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4038480"/>
            <a:ext cx="251460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showConfirmDia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Run &gt; Separate First Level with Filter II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4267080" y="1523880"/>
            <a:ext cx="3810240" cy="703800"/>
          </a:xfrm>
          <a:prstGeom prst="rect">
            <a:avLst/>
          </a:prstGeom>
          <a:gradFill rotWithShape="0">
            <a:gsLst>
              <a:gs pos="0">
                <a:srgbClr val="9973c0"/>
              </a:gs>
              <a:gs pos="100000">
                <a:srgbClr val="cc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Book Antiqua"/>
              </a:rPr>
              <a:t>Separate First Level with Fil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09680" y="2514600"/>
            <a:ext cx="4724640" cy="307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3b8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Sucht Filternwert in einer XML-Datei zeilenwei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048120" y="1676520"/>
            <a:ext cx="1218960" cy="7596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380880"/>
            <a:ext cx="2133360" cy="825480"/>
          </a:xfrm>
          <a:prstGeom prst="rect">
            <a:avLst/>
          </a:prstGeom>
          <a:gradFill rotWithShape="0">
            <a:gsLst>
              <a:gs pos="0">
                <a:srgbClr val="86a8a8"/>
              </a:gs>
              <a:gs pos="100000">
                <a:srgbClr val="cc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Klasse: Se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1447920"/>
            <a:ext cx="1371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Zi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Book Antiqua"/>
              </a:rPr>
              <a:t>Automatische Aufbereitung eines Verzeichnisses, so dass es in ein semantisches Netz eingelesen werden kann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52480" y="3809880"/>
          <a:ext cx="6096240" cy="20574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Muss-Kriteri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Kann-Kriteri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59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Automatische Konvertierung eines Registers nach XM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elektion der Individualobjekte nach ihren Klass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Run &gt; Separate First Level with Filter III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1523880"/>
            <a:ext cx="3810240" cy="703800"/>
          </a:xfrm>
          <a:prstGeom prst="rect">
            <a:avLst/>
          </a:prstGeom>
          <a:gradFill rotWithShape="0">
            <a:gsLst>
              <a:gs pos="0">
                <a:srgbClr val="9973c0"/>
              </a:gs>
              <a:gs pos="100000">
                <a:srgbClr val="cc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Book Antiqua"/>
              </a:rPr>
              <a:t>Separate First Level with Fil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048120" y="1676520"/>
            <a:ext cx="1218960" cy="7596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4248000" cy="54579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3429000" y="1828800"/>
            <a:ext cx="2724120" cy="17334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5038560" y="1143000"/>
            <a:ext cx="4105440" cy="5457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1828800" y="2971800"/>
            <a:ext cx="34290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705720" y="1828800"/>
            <a:ext cx="990360" cy="45720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505320" y="4190760"/>
            <a:ext cx="1752480" cy="106668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43200" y="4876920"/>
            <a:ext cx="2438280" cy="91440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85800" y="4038480"/>
            <a:ext cx="380880" cy="38124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4038480"/>
            <a:ext cx="380880" cy="38124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4572000"/>
            <a:ext cx="380880" cy="38088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85800" y="4572000"/>
            <a:ext cx="380880" cy="38088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Run &gt; Separate All Levels with Fil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4267080" y="1523880"/>
            <a:ext cx="3810240" cy="703800"/>
          </a:xfrm>
          <a:prstGeom prst="rect">
            <a:avLst/>
          </a:prstGeom>
          <a:gradFill rotWithShape="0">
            <a:gsLst>
              <a:gs pos="0">
                <a:srgbClr val="9973c0"/>
              </a:gs>
              <a:gs pos="100000">
                <a:srgbClr val="cc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Book Antiqua"/>
              </a:rPr>
              <a:t>Separate All Levels with Fil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657600" y="2057400"/>
            <a:ext cx="4724280" cy="946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3b8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Voraussetzu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Vorhanden Literaturverzeichnis im XML-Form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Auswahl der Filterklas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Ergebnis wird als Filtername_.xml gespeiche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57600" y="2971800"/>
            <a:ext cx="3733920" cy="520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0c8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Aufbau der MetaT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Klasse </a:t>
            </a:r>
            <a:r>
              <a:rPr b="0" i="1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Separator </a:t>
            </a: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wird aufgeruf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048120" y="1676520"/>
            <a:ext cx="1218960" cy="30456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3581280"/>
            <a:ext cx="2438280" cy="3988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Book Antiqua"/>
              </a:rPr>
              <a:t>JOptionP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2695320" cy="11142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2743200" y="3657600"/>
            <a:ext cx="8380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4038480"/>
            <a:ext cx="251460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showConfirmDia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Run &gt; Separate All Levels with Filter II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4267080" y="1523880"/>
            <a:ext cx="3810240" cy="703800"/>
          </a:xfrm>
          <a:prstGeom prst="rect">
            <a:avLst/>
          </a:prstGeom>
          <a:gradFill rotWithShape="0">
            <a:gsLst>
              <a:gs pos="0">
                <a:srgbClr val="9973c0"/>
              </a:gs>
              <a:gs pos="100000">
                <a:srgbClr val="cc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Book Antiqua"/>
              </a:rPr>
              <a:t>Separate All Levels with Fil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048120" y="1676520"/>
            <a:ext cx="1218960" cy="7596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4248000" cy="54198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429000" y="1828800"/>
            <a:ext cx="2724120" cy="17334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4905360" y="1143000"/>
            <a:ext cx="4238640" cy="54388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 flipV="1">
            <a:off x="2514600" y="2437920"/>
            <a:ext cx="2819520" cy="22860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05720" y="1828800"/>
            <a:ext cx="990360" cy="45720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2895480" y="3504960"/>
            <a:ext cx="2362320" cy="22860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743200" y="4876920"/>
            <a:ext cx="2438280" cy="91440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762120" y="4648320"/>
            <a:ext cx="380880" cy="38088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62120" y="4648320"/>
            <a:ext cx="380880" cy="38088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5257800"/>
            <a:ext cx="380880" cy="38088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762120" y="5257800"/>
            <a:ext cx="380880" cy="38088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54864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Screenshot: RTF DirectoryConvert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Help &gt; About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4267080" y="1523880"/>
            <a:ext cx="1219320" cy="398880"/>
          </a:xfrm>
          <a:prstGeom prst="rect">
            <a:avLst/>
          </a:prstGeom>
          <a:gradFill rotWithShape="0">
            <a:gsLst>
              <a:gs pos="0">
                <a:srgbClr val="9973c0"/>
              </a:gs>
              <a:gs pos="100000">
                <a:srgbClr val="cc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Book Antiqua"/>
              </a:rPr>
              <a:t>Ab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657600" y="2057400"/>
            <a:ext cx="2971800" cy="520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3b8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Information über das Progra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57600" y="2362320"/>
            <a:ext cx="2971800" cy="520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0c8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Klasse:  JOptionPa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Methode: showMessageDialo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1981080" y="1523880"/>
            <a:ext cx="2286000" cy="15264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04920" y="3581280"/>
            <a:ext cx="2438280" cy="3988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Book Antiqua"/>
              </a:rPr>
              <a:t>JOptionP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819160" cy="17337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743200" y="3657600"/>
            <a:ext cx="8380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4038480"/>
            <a:ext cx="251460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Book Antiqua"/>
              </a:rPr>
              <a:t>showMessageDia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Auszug Literaturverzeichn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619760" cy="3886200"/>
          </a:xfrm>
          <a:prstGeom prst="rect">
            <a:avLst/>
          </a:prstGeom>
          <a:gradFill rotWithShape="0">
            <a:gsLst>
              <a:gs pos="0">
                <a:srgbClr val="909090"/>
              </a:gs>
              <a:gs pos="100000">
                <a:srgbClr val="c0c0c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Alfange, Dean </a:t>
            </a: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V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i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37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  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Ady, Endre (Andreas) 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II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261, </a:t>
            </a:r>
            <a:r>
              <a:rPr b="0" i="1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39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American Academy of Arts and Sciences </a:t>
            </a: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VI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135, </a:t>
            </a:r>
            <a:r>
              <a:rPr b="0" i="1" lang="de-DE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46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Annenkow </a:t>
            </a: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II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32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Brandes, Georg </a:t>
            </a: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I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 23, 77, 276, </a:t>
            </a:r>
            <a:r>
              <a:rPr b="0" i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308, 314, 324, 340, 401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Antwort an Georges Clemenceau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I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i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40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En afhandling on aristokratisk radikalisme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i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42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Hauptströmungen der Literatur des 19. Jahrhunderts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I</a:t>
            </a:r>
            <a:r>
              <a:rPr b="0" i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77, </a:t>
            </a:r>
            <a:r>
              <a:rPr b="0" i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 308, 314, 335, 389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II</a:t>
            </a:r>
            <a:r>
              <a:rPr b="0" i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 355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(Hrsg.) Henrik Ibsen, </a:t>
            </a:r>
            <a:r>
              <a:rPr b="0" i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Sämtliche Werke in deutscher Sprache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IV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 14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Offener Brief an Georges Clemenceau </a:t>
            </a:r>
            <a:r>
              <a:rPr b="1" i="1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I</a:t>
            </a:r>
            <a:r>
              <a:rPr b="0" i="1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 40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William Shakespeare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I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i="1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32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Benjamin, Robert Spier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(Hrsg.) </a:t>
            </a:r>
            <a:r>
              <a:rPr b="0" i="1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I Am an American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V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i="1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34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9140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Auszug Literaturverzeichnis als XM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010640" cy="38102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Thomas_Mann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PERSON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 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NAME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Arial"/>
              </a:rPr>
              <a:t>Alfange, Dean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/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NAME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  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/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PERSON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PERSON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 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NAME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Arial"/>
              </a:rPr>
              <a:t>Benjamin, Robert Spiero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/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NAME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HERAUSGEBER_VON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WERK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TITEL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Arial"/>
              </a:rPr>
              <a:t>Am</a:t>
            </a:r>
            <a:r>
              <a:rPr b="1" lang="de-DE" sz="1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Arial"/>
              </a:rPr>
              <a:t>an</a:t>
            </a:r>
            <a:r>
              <a:rPr b="1" lang="de-DE" sz="1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Arial"/>
              </a:rPr>
              <a:t>American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/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TITEL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 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/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WERK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/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HERAUSGEBER_VON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 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/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PERSON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..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Auszug Literaturverzeichnis als X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619760" cy="4495680"/>
          </a:xfrm>
          <a:prstGeom prst="rect">
            <a:avLst/>
          </a:prstGeom>
          <a:gradFill rotWithShape="0">
            <a:gsLst>
              <a:gs pos="0">
                <a:srgbClr val="90909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....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PERSON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 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NAME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Arial"/>
              </a:rPr>
              <a:t>Brandes, Georg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/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NAME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WERK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 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TITEL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Arial"/>
              </a:rPr>
              <a:t>Antwort an Georges Clemenceau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/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TITEL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  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/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WERK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WERK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 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TITEL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Arial"/>
              </a:rPr>
              <a:t>En afhandling on aristokratisk radikalisme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/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TITEL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  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/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WERK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WERK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 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TITEL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Arial"/>
              </a:rPr>
              <a:t>Hauptströmungen der Literatur des </a:t>
            </a:r>
            <a:r>
              <a:rPr b="1" lang="de-DE" sz="1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Arial"/>
              </a:rPr>
              <a:t>19.Jahrhunderts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/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TITEL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  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/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WERK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HERAUSGEBER_VON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AUTOR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&gt; 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NAME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Arial"/>
              </a:rPr>
              <a:t>Henrik Ibsen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/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NAME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&lt;/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AUTOR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WERK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 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TITEL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Arial"/>
              </a:rPr>
              <a:t>Sämtliche Werke in deutscher Sprache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/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TITEL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  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/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WERK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 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lt;/</a:t>
            </a:r>
            <a:r>
              <a:rPr b="0" lang="en-GB" sz="1400" spc="-1" strike="noStrike">
                <a:solidFill>
                  <a:srgbClr val="800000"/>
                </a:solidFill>
                <a:latin typeface="Tahoma"/>
                <a:ea typeface="Arial"/>
              </a:rPr>
              <a:t>HERAUSGEBER_VON</a:t>
            </a:r>
            <a:r>
              <a:rPr b="0" lang="en-GB" sz="1400" spc="-1" strike="noStrike">
                <a:solidFill>
                  <a:srgbClr val="000066"/>
                </a:solidFill>
                <a:latin typeface="Tahoma"/>
                <a:ea typeface="Arial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Tahoma"/>
              </a:rPr>
              <a:t>.....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-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Metatabelle im CSV-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486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1905120"/>
            <a:ext cx="1676520" cy="45720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1905120"/>
            <a:ext cx="1676160" cy="45720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990720" y="1371600"/>
          <a:ext cx="7924680" cy="4944960"/>
        </p:xfrm>
        <a:graphic>
          <a:graphicData uri="http://schemas.openxmlformats.org/drawingml/2006/table">
            <a:tbl>
              <a:tblPr/>
              <a:tblGrid>
                <a:gridCol w="820440"/>
                <a:gridCol w="3675240"/>
                <a:gridCol w="3429000"/>
              </a:tblGrid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ntex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ey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 VAL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25252"/>
                        </a:gs>
                        <a:gs pos="50000">
                          <a:srgbClr val="b2b2b2"/>
                        </a:gs>
                        <a:gs pos="100000">
                          <a:srgbClr val="525252"/>
                        </a:gs>
                      </a:gsLst>
                      <a:lin ang="10800000"/>
                    </a:gradFill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RING_KOMMA_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RSON &amp; NA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79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Alfange, Dean </a:t>
                      </a:r>
                      <a:r>
                        <a:rPr b="1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GB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Ady, Endre (Andreas) </a:t>
                      </a:r>
                      <a:r>
                        <a:rPr b="1" lang="en-GB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r>
                        <a:rPr b="0" lang="en-GB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261, </a:t>
                      </a:r>
                      <a:r>
                        <a:rPr b="0" i="1" lang="en-GB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75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1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?xml version="1.0" encoding="ISO-8859-1" standalone="yes" ?&gt;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</a:t>
                      </a: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Thomas_Mann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</a:t>
                      </a: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PERSON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 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</a:t>
                      </a: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NAME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0" lang="de-DE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fange, Dean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/</a:t>
                      </a: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NAME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 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/</a:t>
                      </a: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PERSON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</a:t>
                      </a: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PERSON misc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="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reas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"&gt;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 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</a:t>
                      </a: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NAME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y, Endre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/</a:t>
                      </a: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NAME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 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/</a:t>
                      </a: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PERSON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lt;</a:t>
                      </a:r>
                      <a:r>
                        <a:rPr b="0" lang="de-DE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/</a:t>
                      </a: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Thomas_Mann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228600" y="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Auszug Literaturverzeichnis als XML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de-DE" sz="3200" spc="-1" strike="noStrike">
                <a:solidFill>
                  <a:srgbClr val="ffffff"/>
                </a:solidFill>
                <a:latin typeface="Monotype Corsiva"/>
              </a:rPr>
              <a:t>Pers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2:11:20Z</dcterms:created>
  <dc:creator>Heejung Park</dc:creator>
  <dc:description/>
  <dc:language>en-US</dc:language>
  <cp:lastModifiedBy>Heejung Park</cp:lastModifiedBy>
  <dcterms:modified xsi:type="dcterms:W3CDTF">2003-02-07T09:27:10Z</dcterms:modified>
  <cp:revision>542</cp:revision>
  <dc:subject/>
  <dc:title>Studienprojekt Automatische Umsetzung eines Registers  in ein XML Schema</dc:title>
</cp:coreProperties>
</file>