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752013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974-5353-4E96-B708-81C8F278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0AF-F7B8-4DC0-AE7E-50CF81E8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BD6-F520-487F-B0DD-9754F385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010-F792-429B-AD21-C04E9161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9D58-EA31-487B-9224-2BC028AC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058D-A2BF-46B6-A2BA-8EDAB7DE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3F65-786F-425C-BE5D-523D46FD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5843-3CFF-498A-A635-E0D20F86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2007-E823-4933-9E4C-B171D572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653D-5274-4DF8-987B-CBA71DC7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E25E-0418-4B2E-A68C-D7435A7E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9EA-A59A-4E12-8BEB-B2DAF00C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C4EC-BCE9-41EC-A9D1-3747ACF5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05B9-607F-4E5E-B116-ECCC2B34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4D34-1FE0-411C-8CC4-13C4F993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E86C-F8C9-4157-9A06-B6A3C43B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E616-0123-46C7-ADA9-0904775D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652-0B80-4036-9B61-4D848367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48A-2467-4ADB-9EB3-611B190C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D95-868F-4358-95A4-EF147B6B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BE8-65CC-4046-B373-FE54DB1B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231-8364-42C0-8DE9-C96E4A6B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AA0-0456-4A0B-A228-F1F18A5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1CE-28BE-4F1B-8894-2F2FED2D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Lucida Console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22.01.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Bufferlo- Spezif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3748-8468-445F-8DF5-D0B3B9FA3A56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52F6-46A5-419A-8A99-5D2B38B36622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Consol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Console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003366"/>
                </a:solidFill>
                <a:latin typeface="Lucida Console"/>
              </a:rPr>
              <a:t>Bufferlo</a:t>
            </a:r>
            <a:endParaRPr b="1" lang="en-US" sz="7200" spc="-1" strike="noStrike">
              <a:solidFill>
                <a:srgbClr val="003366"/>
              </a:solidFill>
              <a:latin typeface="Lucida Conso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66"/>
                </a:solidFill>
                <a:latin typeface="Arial"/>
              </a:rPr>
              <a:t>Spezifikat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66"/>
                </a:solidFill>
                <a:latin typeface="Arial"/>
              </a:rPr>
              <a:t>am 22.01.200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6666"/>
                </a:solidFill>
                <a:latin typeface="Lucida Console"/>
              </a:rPr>
              <a:t>37 Präpositionen des Deutschen</a:t>
            </a:r>
            <a:endParaRPr b="1" lang="en-US" sz="34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n, a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n...entlang, auf 1 (+Dat), auf 2 (+ Akk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auf...zu, aus..heraus, außerhalb, bei, durch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entlang, gegenüber, herauf, herunter, hinauf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hinunter, hinter, im Zentrum, in 1 (+Akk.), in 2(+Dat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in der Mitte , innerhalb, links, nahe, neben, nördlich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oberhalb, östlich, rechts, südlich, über 1 (+ Akk), über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(+ Dat), um...herum, unter, unterhalb, vor, westlich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  <a:ea typeface="Arial"/>
              </a:rPr>
              <a:t>zwisch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Modifikatoren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Oben, unten, vorne, hinten, schrä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Präpositionen, die auch als  Modifikator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fungieren könn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links, rech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Einteilung der Präpositionen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... erfolgt nach ihrer Zuordnung zu d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lgorithmen, mit denen die Buffer berech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we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s müssen also die entstehenden Buffer nac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Lage, Größe, Form, etc. unterschieden we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Formen der Buffer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 Fläche(n) an einem Objekt (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neben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 Fläche zwischen zwei Objekten (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zwischen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 Ringfläche (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bei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 Fläche innerhalb von Objektgrenzen (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 Linie (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auf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Kombinationen: z.B. </a:t>
            </a: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durch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ADA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Einteilung der Präpositionen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... erfolgt also nicht nach den in der Literatu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üblichen Kategorien, da der Großteil dies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nformationen für die Einteilung nach Algorith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uninteressant sin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llerdings werden Informationen wie intrinsisc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s. deiktisch, statisch vs. dynamisch al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Parameter der Algorithmen verwend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Ergebnisse der Einteilung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o Bufferform ein Algorithmus, der sich durch Parameter modifizieren lässt</a:t>
            </a:r>
            <a:br>
              <a:rPr sz="2800"/>
            </a:b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ammlung aller Parameter, die für das Berechnen individueller Präpositionen benötigt wer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Beispiel:</a:t>
            </a: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	</a:t>
            </a: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Kategorie A</a:t>
            </a:r>
            <a:br>
              <a:rPr sz="3600"/>
            </a:br>
            <a:r>
              <a:rPr b="0" lang="de-DE" sz="2800" spc="-1" strike="noStrike">
                <a:solidFill>
                  <a:srgbClr val="006666"/>
                </a:solidFill>
                <a:latin typeface="Lucida Console"/>
              </a:rPr>
              <a:t>(Fläche(n) an einem Objekt)</a:t>
            </a:r>
            <a:endParaRPr b="1" lang="en-US" sz="28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(an...) entlang, hinter, links, rechts, neben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nördlich, südlich, östlich, westlich, v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-&gt; Unterschiedliche Parame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Lucida Console"/>
              </a:rPr>
              <a:t>Parameter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Objektseite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röße des Betrach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röße und Form der Fläche(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rt der Schraffu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Objektseite: Bounding Box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dea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Kleinstmögliches Rechteck, das das Objek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umschließt, 4 durchnummerierte Seit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ehrere relevante Bounding Boxe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efault-Box aus ungerichteter Si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us intrinsischer Si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us geographisch-globaler Si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us deiktischer Si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6666"/>
                </a:solidFill>
                <a:latin typeface="Lucida Console"/>
              </a:rPr>
              <a:t>Annahmen zu erzeugten Flächen</a:t>
            </a:r>
            <a:endParaRPr b="1" lang="en-US" sz="34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ußenlinie der erzeugten Fläche ist Abbild von Objektli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Buffergröße orientiert sich prozentual an der entsprechenden Seitengröße der Bounding Bo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Bufferlo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Studienprojekt 2001/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Lehrstuhl für Computerlinguisti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Ruprecht-Karls-Universität Heidelbe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de-DE" sz="40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Studienprojekt-Team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tienne Verleih, Florence Feierei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Suzanne Heiob, Thorsten Reichel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Größe und Form der Fläche(n)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Modifizierung mit folgenden Parameter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bstand der Bounding Box zu Objektpunk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bstand der inneren Linie vom Obje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bstand der äußeren Linie vom Obje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Ränder: erster Wink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Ränder: zweiter Wink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500" spc="-1" strike="noStrike">
                <a:solidFill>
                  <a:srgbClr val="006666"/>
                </a:solidFill>
                <a:latin typeface="Lucida Console"/>
              </a:rPr>
              <a:t>Ausgabe der Fläche: Schraffur</a:t>
            </a:r>
            <a:endParaRPr b="1" lang="en-US" sz="35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ngab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des Geltungsbereic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esamtgeltungsbere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Intensitä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der Semantik der Flä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tatisch vs. dynamis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evtl. Kontakt zum Objek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TB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666"/>
                </a:solidFill>
                <a:latin typeface="Lucida Console"/>
              </a:rPr>
              <a:t>Parameter für neben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Kategorie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ounding Box aus intrinsischer oder deiktischer Sicht (anhängig von Existenz eines Betrach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Flächen auf Seite 2 &amp; 4 der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bstand der inneren Linie zum Objekt: 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bstand der äußeren Linie zum Objekt: 2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Ränder: erster Winkel: 90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Ränder: zweiter Winkel: 130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chraff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ontakt zum Objekt mögli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statis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Lucida Console"/>
              </a:rPr>
              <a:t>Programmstruktur oberste Ebene</a:t>
            </a:r>
            <a:endParaRPr b="1" lang="en-US" sz="32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4533840"/>
            <a:ext cx="2133360" cy="11430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ffer-berechn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1600200"/>
            <a:ext cx="1295280" cy="11430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640" y="3124080"/>
            <a:ext cx="1800360" cy="13338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aphische Ein-/ Ausga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596960" y="1879200"/>
            <a:ext cx="190656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10120" y="1879560"/>
            <a:ext cx="12384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3480" y="2425680"/>
            <a:ext cx="144468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285640" y="2844720"/>
            <a:ext cx="93348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970440"/>
            <a:ext cx="3733920" cy="9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11680" y="5241960"/>
            <a:ext cx="13082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596960" y="4457880"/>
            <a:ext cx="1906560" cy="88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19480" y="2425680"/>
            <a:ext cx="1905120" cy="8380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position, Objekt(e), 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5065560"/>
            <a:ext cx="1676520" cy="6858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mehrer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57640" y="1600200"/>
            <a:ext cx="1828800" cy="60948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string (PP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19480" y="4103640"/>
            <a:ext cx="1942920" cy="83808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position, Objekt(e), 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Eingabestring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Parser parst Präpositionalphra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ine PP besteht im Allgemeinen au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Modifikatoren + Präposition + Artikel + Obje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Bufferlo- Einschränkung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Unser Parser akzeptiert bis zu 2 Modifikato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z.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&lt;&lt;vorne links an der Kirche&gt;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&lt;&lt;Hinten am Karlsplatz&gt;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3366"/>
                </a:solidFill>
                <a:latin typeface="Arial"/>
              </a:rPr>
              <a:t>&lt;&lt;In der Uni&gt;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Lucida Console"/>
              </a:rPr>
              <a:t>Programmstruktur Parser</a:t>
            </a:r>
            <a:endParaRPr b="1" lang="en-US" sz="32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70" name=""/>
          <p:cNvSpPr/>
          <p:nvPr/>
        </p:nvSpPr>
        <p:spPr>
          <a:xfrm>
            <a:off x="166680" y="2816280"/>
            <a:ext cx="2576520" cy="12193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sereingab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P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90840" y="1066680"/>
            <a:ext cx="2362320" cy="762120"/>
          </a:xfrm>
          <a:prstGeom prst="flowChartMagneticDisk">
            <a:avLst/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äpositionslexik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19880" y="1066680"/>
            <a:ext cx="2057400" cy="762120"/>
          </a:xfrm>
          <a:prstGeom prst="flowChartMagneticDisk">
            <a:avLst/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Wör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6720" y="1066680"/>
            <a:ext cx="2057400" cy="762120"/>
          </a:xfrm>
          <a:prstGeom prst="flowChartMagneticDisk">
            <a:avLst/>
          </a:prstGeom>
          <a:solidFill>
            <a:srgbClr val="00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bjektdatenban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892600"/>
            <a:ext cx="1676520" cy="10666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54720" y="5181480"/>
            <a:ext cx="1905120" cy="90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bis 2 Objek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4160" y="5181480"/>
            <a:ext cx="1800360" cy="90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Präposi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70120" y="5091120"/>
            <a:ext cx="189720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öchste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 Modifikator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15080" y="1828800"/>
            <a:ext cx="2095200" cy="1063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828800"/>
            <a:ext cx="0" cy="1063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1828800"/>
            <a:ext cx="1873080" cy="1063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959280"/>
            <a:ext cx="2666880" cy="122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3959280"/>
            <a:ext cx="0" cy="11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828800" y="3959280"/>
            <a:ext cx="2743200" cy="122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4257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66"/>
                </a:solidFill>
                <a:latin typeface="Lucida Console"/>
              </a:rPr>
              <a:t>Implementierung</a:t>
            </a:r>
            <a:endParaRPr b="1" lang="en-US" sz="32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mit Pyth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GUI mit Tki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66"/>
                </a:solidFill>
                <a:latin typeface="Lucida Console"/>
              </a:rPr>
              <a:t>Ausblick...</a:t>
            </a:r>
            <a:endParaRPr b="1" lang="en-US" sz="32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...wenn die Zeit reich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ool zum Zeichnen von geometrischen Objekten und Aufnahme in die Objektdatenban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ool zur Aufnahme einzelner neuer Präpositionen (auch andere Sprache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Lokalisationskompon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Ende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3886200"/>
            <a:ext cx="60962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0" spc="-1" strike="noStrike">
                <a:solidFill>
                  <a:srgbClr val="003366"/>
                </a:solidFill>
                <a:latin typeface="Monotype Corsiva"/>
              </a:rPr>
              <a:t>To be continued...</a:t>
            </a:r>
            <a:endParaRPr b="0" lang="en-US" sz="7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6666"/>
                </a:solidFill>
                <a:latin typeface="Lucida Console"/>
              </a:rPr>
              <a:t>Bufferlo-</a:t>
            </a:r>
            <a:br>
              <a:rPr sz="4000"/>
            </a:br>
            <a:r>
              <a:rPr b="0" lang="de-DE" sz="2400" spc="-1" strike="noStrike">
                <a:solidFill>
                  <a:srgbClr val="006666"/>
                </a:solidFill>
                <a:latin typeface="Lucida Console"/>
              </a:rPr>
              <a:t>Tool zur Beschreibung von Raumausdrücken</a:t>
            </a:r>
            <a:endParaRPr b="1" lang="en-US" sz="24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usgangside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Raumausdrücke erzeugen Fläch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Programm soll Flächen an geometrisch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Objekten erzeugen, die diese Raumausdrück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repräsentier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Grober Programmablauf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ingabe einer Präpositionalphra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naly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Berechnung eines Buf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Graphische Ausga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Lucida Console"/>
              </a:rPr>
              <a:t>Programmstruktur oberste Ebene</a:t>
            </a:r>
            <a:endParaRPr b="1" lang="en-US" sz="32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533840"/>
            <a:ext cx="2133360" cy="11430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ffer-berechn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1600200"/>
            <a:ext cx="1295280" cy="11430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640" y="3124080"/>
            <a:ext cx="1800360" cy="133380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aphische Ein-/ Ausga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596960" y="1879200"/>
            <a:ext cx="1906560" cy="12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1879560"/>
            <a:ext cx="12384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03480" y="2425680"/>
            <a:ext cx="144468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85640" y="2844720"/>
            <a:ext cx="93348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3970440"/>
            <a:ext cx="3733920" cy="9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711680" y="5241960"/>
            <a:ext cx="13082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596960" y="4457880"/>
            <a:ext cx="1906560" cy="88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19480" y="2425680"/>
            <a:ext cx="1905120" cy="8380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position, Objekt(e), 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0" y="5065560"/>
            <a:ext cx="1676520" cy="6858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mehrer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7640" y="1600200"/>
            <a:ext cx="1828800" cy="60948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gabestr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19480" y="4103640"/>
            <a:ext cx="1942920" cy="83808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äposition, Objekt(e), 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Anwendbarkeit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eil der Lokalisationskomponente fü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avigationssystem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Touristenleitsyste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prachgesteuerte Roboter/ Compu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ituations- oder Bildbeschreib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ilitärische Zwecke, Spionage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Karten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ammlung von geometrischen Objekten + Metada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etadaten beinhalte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ame, I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Perspek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renz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Arial"/>
              </a:rPr>
              <a:t>Format: 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Lucida Console"/>
              </a:rPr>
              <a:t>Geometrische Objekte</a:t>
            </a:r>
            <a:endParaRPr b="1" lang="en-US" sz="3600" spc="-1" strike="noStrike">
              <a:solidFill>
                <a:srgbClr val="006666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Name, I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semantische Merkm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1 Poly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Verweis auf beinhaltete Objek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vtl. gericht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8:46:34Z</dcterms:created>
  <dc:creator>f.feiereisen</dc:creator>
  <dc:description/>
  <dc:language>en-US</dc:language>
  <cp:lastModifiedBy>Thorsten Reichelt</cp:lastModifiedBy>
  <dcterms:modified xsi:type="dcterms:W3CDTF">2003-01-14T22:44:20Z</dcterms:modified>
  <cp:revision>11</cp:revision>
  <dc:subject/>
  <dc:title>Spezifikation</dc:title>
</cp:coreProperties>
</file>