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vantGarde Md BT"/>
              </a:rPr>
              <a:t>Click to move the slide</a:t>
            </a: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CD7A-57C0-4CC5-A37A-EEDD5D9D698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ynamische Präps: kein Konzept, nur Ansätze: erzeugen Flächen? erzeugen Vektorenscharen? Darstellung in der GUI? </a:t>
            </a:r>
            <a:r>
              <a:rPr b="0" lang="de-DE" sz="1400" spc="-1" strike="noStrike">
                <a:solidFill>
                  <a:srgbClr val="ff4c1b"/>
                </a:solidFill>
                <a:latin typeface="Arial"/>
              </a:rPr>
              <a:t>Zeitdimens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10AF-2B6D-4093-B336-0782EC08A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69320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26920" y="4295160"/>
            <a:ext cx="769320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4882-0724-463F-ABA7-78D5CF86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375408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68920" y="2349360"/>
            <a:ext cx="375408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26920" y="4295160"/>
            <a:ext cx="375408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68920" y="4295160"/>
            <a:ext cx="375408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4004-A29F-48F9-8D34-DA53F0822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247680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27920" y="2349360"/>
            <a:ext cx="247680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8920" y="2349360"/>
            <a:ext cx="247680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26920" y="4295160"/>
            <a:ext cx="247680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27920" y="4295160"/>
            <a:ext cx="247680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8920" y="4295160"/>
            <a:ext cx="247680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A40A-773F-4344-BCAA-3D790F0EB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BCF3-62D3-4361-BCF1-878075B66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49F6-38A0-4FE7-807A-D83D1499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7521-F789-4A69-9A88-C4247512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375408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68920" y="2349360"/>
            <a:ext cx="375408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796E-273F-4D05-AE95-FFC3F6E8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C1F2-4600-4CF8-B03F-5354448E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27640" y="83700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CE80-FD8A-4E6D-BA45-7D21AFB7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375408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68920" y="2349360"/>
            <a:ext cx="375408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6920" y="4295160"/>
            <a:ext cx="375408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5137-0D99-4B00-8CDF-1A6D9A4A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921F-FD1D-489C-B21A-C4A46CBF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375408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68920" y="2349360"/>
            <a:ext cx="375408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68920" y="4295160"/>
            <a:ext cx="375408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6EFA-49FC-4F3D-9510-0A1C9764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375408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68920" y="2349360"/>
            <a:ext cx="375408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26920" y="4295160"/>
            <a:ext cx="769320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E08A-75BD-42C1-873F-E3E8DA26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69320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26920" y="4295160"/>
            <a:ext cx="769320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B4B0-E002-4771-851E-AC512C0B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375408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68920" y="2349360"/>
            <a:ext cx="375408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26920" y="4295160"/>
            <a:ext cx="375408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68920" y="4295160"/>
            <a:ext cx="375408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12A1-A30B-4322-8D86-6A22BB92C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247680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27920" y="2349360"/>
            <a:ext cx="247680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8920" y="2349360"/>
            <a:ext cx="247680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26920" y="4295160"/>
            <a:ext cx="247680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27920" y="4295160"/>
            <a:ext cx="247680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8920" y="4295160"/>
            <a:ext cx="247680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AC758-DA07-41C6-9F83-475FFC35E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90CD-82BE-42D0-A2E1-A0E200D5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375408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68920" y="2349360"/>
            <a:ext cx="375408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E998-954B-416F-8120-F2BF9F29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C795-AF50-4102-B4AE-EC351017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27640" y="83700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C502-3EA5-467A-987D-7CEC4B15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375408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68920" y="2349360"/>
            <a:ext cx="375408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4295160"/>
            <a:ext cx="375408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3DE2-415C-4549-95CB-2E398E17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375408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68920" y="2349360"/>
            <a:ext cx="375408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68920" y="4295160"/>
            <a:ext cx="375408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4D12-115F-4A6F-A1E6-3C847074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375408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68920" y="2349360"/>
            <a:ext cx="375408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920" y="4295160"/>
            <a:ext cx="769320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7DEA-849B-4B6B-B2FA-A2C9B792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84ab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84ab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vantGarde Md BT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9A3E-C1AB-4B4E-8AE8-3407698A5FE8}" type="datetime">
              <a:rPr b="0" lang="de-DE" sz="1400" spc="-1" strike="noStrike">
                <a:solidFill>
                  <a:srgbClr val="003366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0196-B440-4E73-B9FA-5027C3E30B5D}" type="slidenum">
              <a:rPr b="1" lang="de-DE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84ab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1E55-3DDC-4411-873C-540C01067D7A}" type="datetime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D52C-FE4D-4CDB-AD90-52F9CCDAE976}" type="slidenum">
              <a:rPr b="1" lang="de-DE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vantGarde Md BT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200" spc="-1" strike="noStrike">
                <a:solidFill>
                  <a:srgbClr val="660066"/>
                </a:solidFill>
                <a:latin typeface="AvantGarde Md BT"/>
              </a:rPr>
              <a:t>Bufferlo</a:t>
            </a:r>
            <a:endParaRPr b="0" lang="en-US" sz="72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932360" y="3573000"/>
            <a:ext cx="4013280" cy="18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udienprojekt 02/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660066"/>
                </a:solidFill>
                <a:latin typeface="AvantGarde Md BT"/>
              </a:rPr>
              <a:t>Wie funktioniert`s?</a:t>
            </a: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hand von IDs werden die Daten der Präposition und des Objekts / der Objekte gela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Je nach Typ der Präposition wird ein Algorithmus zur Berechnung des Buffers ausgewäh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r Buffer wird berechnet und zurückgege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D37D-CC1A-400B-A1D9-F296DF93599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49BA04-C446-4813-886B-76233DA947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660066"/>
                </a:solidFill>
                <a:latin typeface="AvantGarde Md BT"/>
              </a:rPr>
              <a:t>Typ-A-Algorithmus</a:t>
            </a: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timmen der relevanten Objektpunkte (mit Hilfe von Bounding Bo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jizieren dieser Punkte, um Bufferfläche zu gener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ufferkosmetik (Winkel, Schraffu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E349-4470-44F5-8D11-40140C598D0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3DCA15-74E0-453E-B7B3-F6AE310FD9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660066"/>
                </a:solidFill>
                <a:latin typeface="AvantGarde Md BT"/>
              </a:rPr>
              <a:t>Bounding Boxes</a:t>
            </a: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 kleinstmögliches Rechteck, das ein Polygon vollständig beinhalt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ibt es sichtweisenabhängi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intrinsisch, deiktisch, geo-glob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d sichtweisenunabhängi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CB70-0459-4DAF-8525-6FB17423A7E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EE530C-1F75-44B0-A2AA-9AD2304E39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660066"/>
                </a:solidFill>
                <a:latin typeface="AvantGarde Md BT"/>
              </a:rPr>
              <a:t>Buffer-Parameter</a:t>
            </a: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s individuelle Aussehen der Buffer wird über Parameter gesteuert, die für jede Präposition einzeln angegeben wer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zeugt eine Präposition mehrere Flächen (z.B. neben), so gibt es für jeden dieser Buffer einen eigenen Parametersat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3D11-1961-4B1F-A515-44DA842AC92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4ED331-9B30-49F5-9FF9-6BA8103786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660066"/>
                </a:solidFill>
                <a:latin typeface="AvantGarde Md BT"/>
              </a:rPr>
              <a:t>Buffer-Parameter im Detail</a:t>
            </a:r>
            <a:endParaRPr b="0" lang="en-US" sz="38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409428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lächenty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nta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ounding Box Se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levante Objekttiefe (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stand der inneren und äußeren Linie vom Objekt (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satz-Winkel (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raff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651640" y="2421000"/>
            <a:ext cx="3022560" cy="338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4056-169E-42CD-A47A-CD821E3D454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7358E8-A9D0-4948-BD32-094B8626A3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95560" y="305280"/>
            <a:ext cx="7834680" cy="6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60066"/>
                </a:solidFill>
                <a:latin typeface="AvantGarde Md BT"/>
              </a:rPr>
              <a:t>Präpositionsdatenbank Beispiel</a:t>
            </a:r>
            <a:endParaRPr b="0" lang="en-US" sz="32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26920" y="1125360"/>
            <a:ext cx="76932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preposition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name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id="16"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hinter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/na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point_of_view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type="deictic"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point_of_view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type="intrinsic" 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/&gt;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prep_gramma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token&gt;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hinter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/token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syntax&gt;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*Mod *Mod Prep Art Noun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/syntax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part_of_speech&gt;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Prep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/part_of_speech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case&gt;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Dativ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/cas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combinations&gt;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links, rechts, oben, unten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/combinations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/prep_gramma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prep_buffer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multiple="no"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area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type="A"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contact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type="no"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bb_side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side="3"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relevant_object_depth&gt;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50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/relevant_object_depth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inner_distance&gt;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/inner_distanc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outer_distance&gt;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90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/outer_distanc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angle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expand="no"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25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/angl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dyn_stat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type="static"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coloring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intensity="even"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/prep_buff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Courier New"/>
              </a:rPr>
              <a:t>&lt;/preposition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9F87-FAFD-4540-9A76-5B4E216910D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8C9456-CEA9-483D-82C3-F10864C237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660066"/>
                </a:solidFill>
                <a:latin typeface="AvantGarde Md BT"/>
              </a:rPr>
              <a:t>Objektdatenbank (I)</a:t>
            </a: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ammlung von geometrischen Objekten + Metad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etadaten beinhalt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ame, 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oint of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artengren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4992-F0DD-419E-84AA-1FC6C8876B5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FC937A-4B2B-4D58-AC56-F4CC5D2478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660066"/>
                </a:solidFill>
                <a:latin typeface="AvantGarde Md BT"/>
              </a:rPr>
              <a:t>Objektdatenbank (II)</a:t>
            </a: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ten eines Objek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ame,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rammatikinformati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antische Informationen in Typ/Wert-Pa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ordin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icht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D391-F3AA-4CF6-81FC-526FC47FF8A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09D161-1B3F-4B6D-A922-4B456D1C7E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51640" y="-2440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660066"/>
                </a:solidFill>
                <a:latin typeface="AvantGarde Md BT"/>
              </a:rPr>
              <a:t>Objektdatenbank</a:t>
            </a:r>
            <a:r>
              <a:rPr b="0" lang="de-DE" sz="3600" spc="-1" strike="noStrike">
                <a:solidFill>
                  <a:srgbClr val="660066"/>
                </a:solidFill>
                <a:latin typeface="AvantGarde Md BT"/>
              </a:rPr>
              <a:t> </a:t>
            </a:r>
            <a:r>
              <a:rPr b="0" lang="de-DE" sz="3200" spc="-1" strike="noStrike">
                <a:solidFill>
                  <a:srgbClr val="660066"/>
                </a:solidFill>
                <a:latin typeface="AvantGarde Md BT"/>
              </a:rPr>
              <a:t>Beispiel</a:t>
            </a:r>
            <a:endParaRPr b="0" lang="en-US" sz="32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11280" y="1052280"/>
            <a:ext cx="769464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obj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obj_name id="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05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"&gt;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Triplex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/obj_name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kasus&gt;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Nominativ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/kasus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genus&gt;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Feminin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/genus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numerus&gt;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Singular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/numerus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semantics&gt;Typ =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Gebäude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/semantic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semantics&gt;Nutzung =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Öffentlich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/semantic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color&gt;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braun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/color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poi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point&gt;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275 800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/point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point&gt;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375 800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/point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point&gt;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375 950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/point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point&gt;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275 950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/point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/poi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direct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poi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point&gt;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275 875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/point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point&gt;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340 875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/point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/poi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/direct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&lt;/obj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DB68-21C1-4C8D-AF69-4BA79318378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27A717-B0A5-4A49-A8E3-49E158871F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660066"/>
                </a:solidFill>
                <a:latin typeface="AvantGarde Md BT"/>
              </a:rPr>
              <a:t>Inhalt</a:t>
            </a: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b2b2b2"/>
                </a:solidFill>
                <a:latin typeface="Arial"/>
              </a:rPr>
              <a:t>Linguistische Vorüberleg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0c0c0"/>
                </a:solidFill>
                <a:latin typeface="Arial"/>
              </a:rPr>
              <a:t>Funktionsweise von Buffer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gramm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0c0c0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911F-569C-412A-9FCA-15C2FACF1D8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CCA01B-E459-48F1-996F-D2A925DA42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660066"/>
                </a:solidFill>
                <a:latin typeface="AvantGarde Md BT"/>
              </a:rPr>
              <a:t>Inhalt</a:t>
            </a: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inguistische Vorüberleg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unktionsweise von Buffer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gramm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48A3-265C-4663-8184-6F30CA18F3D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EEC081-66FF-4C1D-B52A-1008843D03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c0c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c0c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c0c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>
            <a:lum contrast="-10000"/>
          </a:blip>
          <a:stretch/>
        </p:blipFill>
        <p:spPr>
          <a:xfrm>
            <a:off x="3132000" y="2349360"/>
            <a:ext cx="3567240" cy="3889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660066"/>
                </a:solidFill>
                <a:latin typeface="AvantGarde Md BT"/>
              </a:rPr>
              <a:t>Begriffliches</a:t>
            </a: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44" name=""/>
          <p:cNvSpPr/>
          <p:nvPr/>
        </p:nvSpPr>
        <p:spPr>
          <a:xfrm>
            <a:off x="6994440" y="3789360"/>
            <a:ext cx="215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Bounding Box</a:t>
            </a:r>
            <a:br>
              <a:rPr sz="1800"/>
            </a:b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(sichtweisenunabhängig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956280" y="2492280"/>
            <a:ext cx="21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Gültigkeitsbereich / </a:t>
            </a:r>
            <a:br>
              <a:rPr sz="1800"/>
            </a:b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9440" y="537372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Objekt/ Polyg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5589720"/>
            <a:ext cx="165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579640" y="2852640"/>
            <a:ext cx="1368360" cy="1008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0160" y="450864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Richtungsvekt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27280" y="4724280"/>
            <a:ext cx="2305080" cy="4334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192080" y="4941720"/>
            <a:ext cx="195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Bounding Box</a:t>
            </a:r>
            <a:br>
              <a:rPr sz="1800"/>
            </a:b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(sichtweisenabhängig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443280" y="4076640"/>
            <a:ext cx="576360" cy="5047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516720" y="5157720"/>
            <a:ext cx="719280" cy="287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05440" y="256536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Betracht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700360" y="2636640"/>
            <a:ext cx="1655640" cy="144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61B9-4C6C-4E5D-ABFA-75FB90D4AF8A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5A1EB5-AD88-4441-AE0D-08E073A3EAE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660066"/>
                </a:solidFill>
                <a:latin typeface="AvantGarde Md BT"/>
              </a:rPr>
              <a:t>Inhalt</a:t>
            </a: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b2b2b2"/>
                </a:solidFill>
                <a:latin typeface="Arial"/>
              </a:rPr>
              <a:t>Linguistische Vorüberleg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0c0c0"/>
                </a:solidFill>
                <a:latin typeface="Arial"/>
              </a:rPr>
              <a:t>Funktionsweise von Buffer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0c0c0"/>
                </a:solidFill>
                <a:latin typeface="Arial"/>
              </a:rPr>
              <a:t>Programm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6BEE-E324-4821-A0DF-293817B0B53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370F73-94EF-4820-8BCE-3975EBE3A1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660066"/>
                </a:solidFill>
                <a:latin typeface="AvantGarde Md BT"/>
              </a:rPr>
              <a:t>Implementierte Präpositionen</a:t>
            </a:r>
            <a:endParaRPr b="0" lang="en-US" sz="32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yp A, statis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or, h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inks, rec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e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ördlich, südlich, westlich, östl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blemfall: 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011A-C044-434B-9C75-F3BBCA50879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8C4FDA-C4AA-4643-9847-C7DF2B5DEB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660066"/>
                </a:solidFill>
                <a:latin typeface="AvantGarde Md BT"/>
              </a:rPr>
              <a:t>Nicht erreichte Ziele</a:t>
            </a: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ltungsbereiche von Präpositionen sollten ihre Intensität veränd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wichtung von Objek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stliche statische Präpositi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ynamische Präpositi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ür Lokalisation: Größenverhältnisse zwischen LO und 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ABFA-5508-4753-9517-FBDF2C0D025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0F7BAC-179A-4BE5-A131-5CF8083D7F17}" type="datetime1">
              <a:rPr lang="en-US"/>
              <a:t>07/29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660066"/>
                </a:solidFill>
                <a:latin typeface="AvantGarde Md BT"/>
              </a:rPr>
              <a:t>Problematische Ansätze</a:t>
            </a: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ichtungspfe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ufferwink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fault-BB bei deiktischen Buff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immelsricht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schlossene Linienzü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26B1-5CE9-4560-9F5F-83C88F56EA2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E6E2DD-48B6-42D9-841D-E299C7EFCE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660066"/>
                </a:solidFill>
                <a:latin typeface="AvantGarde Md BT"/>
              </a:rPr>
              <a:t>Nice to have...</a:t>
            </a: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0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äpositionseditor in der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0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serer Präpositionspar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0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XML-Schemas für die Datenban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8664-F176-4101-A6B7-7BB4289E8EF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D19163-62E5-4DBF-A7AD-392F9CEB4E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660066"/>
                </a:solidFill>
                <a:latin typeface="AvantGarde Md BT"/>
              </a:rPr>
              <a:t>The End</a:t>
            </a: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eitere Informationen, Präsentationen un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nutzeranleitung un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ttp://wiki.cl.uni-heidelberg.de/moin.cgi/ProjektPr_e4posi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elen Dank für Eure Aufmerksamkeit :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tienne und Tho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F2C3-A829-4B7C-999A-65881BB9E5CF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416921-9270-4270-A84D-3EC67261B4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660066"/>
                </a:solidFill>
                <a:latin typeface="AvantGarde Md BT"/>
              </a:rPr>
              <a:t>Anhang…</a:t>
            </a: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17E3-8489-4470-AA68-147C533CAB49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44C919-0AF2-4D6B-9570-00EF4EBAC0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500720" y="765000"/>
            <a:ext cx="4464000" cy="496908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07932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3141720"/>
            <a:ext cx="3816360" cy="180000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07932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92360" y="765000"/>
            <a:ext cx="2374920" cy="1872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763640" y="5734080"/>
            <a:ext cx="1224000" cy="863640"/>
            <a:chOff x="1763640" y="5734080"/>
            <a:chExt cx="1224000" cy="863640"/>
          </a:xfrm>
        </p:grpSpPr>
        <p:sp>
          <p:nvSpPr>
            <p:cNvPr id="173" name=""/>
            <p:cNvSpPr/>
            <p:nvPr/>
          </p:nvSpPr>
          <p:spPr>
            <a:xfrm>
              <a:off x="1763640" y="5734080"/>
              <a:ext cx="1224000" cy="86364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  <a:effectLst>
              <a:outerShdw dist="107932" dir="27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81800" y="5878800"/>
              <a:ext cx="788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erro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tool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4932360" y="4005360"/>
            <a:ext cx="2016000" cy="151128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07932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07600" y="4076640"/>
            <a:ext cx="15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epcontain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583240" y="465120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eposi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82520" y="5156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dif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932360" y="1952640"/>
            <a:ext cx="2016000" cy="1511280"/>
            <a:chOff x="4932360" y="1952640"/>
            <a:chExt cx="2016000" cy="1511280"/>
          </a:xfrm>
        </p:grpSpPr>
        <p:sp>
          <p:nvSpPr>
            <p:cNvPr id="180" name=""/>
            <p:cNvSpPr/>
            <p:nvPr/>
          </p:nvSpPr>
          <p:spPr>
            <a:xfrm>
              <a:off x="4932360" y="1952640"/>
              <a:ext cx="2016000" cy="15112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  <a:effectLst>
              <a:outerShdw dist="107932" dir="27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006520" y="2168280"/>
              <a:ext cx="1744920" cy="871560"/>
              <a:chOff x="5006520" y="2168280"/>
              <a:chExt cx="1744920" cy="871560"/>
            </a:xfrm>
          </p:grpSpPr>
          <p:sp>
            <p:nvSpPr>
              <p:cNvPr id="182" name=""/>
              <p:cNvSpPr/>
              <p:nvPr/>
            </p:nvSpPr>
            <p:spPr>
              <a:xfrm>
                <a:off x="5006520" y="216828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geomap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583240" y="2671560"/>
                <a:ext cx="1168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geoobject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"/>
          <p:cNvGrpSpPr/>
          <p:nvPr/>
        </p:nvGrpSpPr>
        <p:grpSpPr>
          <a:xfrm>
            <a:off x="4932360" y="836640"/>
            <a:ext cx="863640" cy="576360"/>
            <a:chOff x="4932360" y="836640"/>
            <a:chExt cx="863640" cy="576360"/>
          </a:xfrm>
        </p:grpSpPr>
        <p:sp>
          <p:nvSpPr>
            <p:cNvPr id="185" name=""/>
            <p:cNvSpPr/>
            <p:nvPr/>
          </p:nvSpPr>
          <p:spPr>
            <a:xfrm>
              <a:off x="4932360" y="836640"/>
              <a:ext cx="863640" cy="5763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  <a:effectLst>
              <a:outerShdw dist="107932" dir="27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05800" y="90792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gram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7524720" y="2924280"/>
            <a:ext cx="1295280" cy="86508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07932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308720" y="1484280"/>
            <a:ext cx="1511280" cy="86508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7527960" y="2924280"/>
            <a:ext cx="1269360" cy="801720"/>
            <a:chOff x="7527960" y="2924280"/>
            <a:chExt cx="1269360" cy="801720"/>
          </a:xfrm>
        </p:grpSpPr>
        <p:sp>
          <p:nvSpPr>
            <p:cNvPr id="190" name=""/>
            <p:cNvSpPr/>
            <p:nvPr/>
          </p:nvSpPr>
          <p:spPr>
            <a:xfrm>
              <a:off x="7527960" y="2924280"/>
              <a:ext cx="125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maploade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28320" y="3357720"/>
              <a:ext cx="126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reploade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7312680" y="170028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bank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3284640"/>
            <a:ext cx="1297080" cy="1368360"/>
          </a:xfrm>
          <a:prstGeom prst="rect">
            <a:avLst/>
          </a:prstGeom>
          <a:solidFill>
            <a:srgbClr val="ff6969"/>
          </a:solidFill>
          <a:ln w="0">
            <a:noFill/>
          </a:ln>
          <a:effectLst>
            <a:outerShdw dist="107932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0520" y="407664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02520" y="35002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bo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50920" y="3429000"/>
            <a:ext cx="1297080" cy="10796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95640" y="3716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ufferl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835280" y="981000"/>
            <a:ext cx="649080" cy="432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837440" y="981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ta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63640" y="5732640"/>
            <a:ext cx="1224000" cy="863280"/>
          </a:xfrm>
          <a:prstGeom prst="rect">
            <a:avLst/>
          </a:prstGeom>
          <a:solidFill>
            <a:srgbClr val="6699ff"/>
          </a:solidFill>
          <a:ln w="0">
            <a:noFill/>
          </a:ln>
          <a:effectLst>
            <a:outerShdw dist="107932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837800" y="5734080"/>
            <a:ext cx="78876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rr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tool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620720" y="5446800"/>
            <a:ext cx="1582920" cy="215640"/>
            <a:chOff x="1620720" y="5446800"/>
            <a:chExt cx="1582920" cy="215640"/>
          </a:xfrm>
        </p:grpSpPr>
        <p:sp>
          <p:nvSpPr>
            <p:cNvPr id="203" name=""/>
            <p:cNvSpPr/>
            <p:nvPr/>
          </p:nvSpPr>
          <p:spPr>
            <a:xfrm>
              <a:off x="1620720" y="5446800"/>
              <a:ext cx="216000" cy="215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052720" y="5446800"/>
              <a:ext cx="71280" cy="215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410920" y="5446800"/>
              <a:ext cx="1800" cy="215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2700360" y="5446800"/>
              <a:ext cx="71280" cy="215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2987640" y="5446800"/>
              <a:ext cx="216000" cy="215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 flipV="1">
            <a:off x="3132000" y="274140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916360" y="274176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19280" y="3716280"/>
            <a:ext cx="576360" cy="144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619280" y="4005360"/>
            <a:ext cx="576360" cy="287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268360" y="148428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050560" y="1484280"/>
            <a:ext cx="180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867280" y="1125360"/>
            <a:ext cx="2305080" cy="287640"/>
          </a:xfrm>
          <a:custGeom>
            <a:avLst/>
            <a:gdLst/>
            <a:ahLst/>
            <a:rect l="l" t="t" r="r" b="b"/>
            <a:pathLst>
              <a:path w="1452" h="136">
                <a:moveTo>
                  <a:pt x="0" y="0"/>
                </a:moveTo>
                <a:lnTo>
                  <a:pt x="1407" y="0"/>
                </a:lnTo>
                <a:lnTo>
                  <a:pt x="1452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411280" y="1125000"/>
            <a:ext cx="2592360" cy="71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11280" y="1341360"/>
            <a:ext cx="2808360" cy="2808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411280" y="1268280"/>
            <a:ext cx="2737080" cy="9367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03640" y="3933720"/>
            <a:ext cx="1800000" cy="287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203640" y="2565360"/>
            <a:ext cx="1944720" cy="1295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835280" y="1773360"/>
            <a:ext cx="1970640" cy="718920"/>
            <a:chOff x="1835280" y="1773360"/>
            <a:chExt cx="1970640" cy="718920"/>
          </a:xfrm>
        </p:grpSpPr>
        <p:sp>
          <p:nvSpPr>
            <p:cNvPr id="221" name=""/>
            <p:cNvSpPr/>
            <p:nvPr/>
          </p:nvSpPr>
          <p:spPr>
            <a:xfrm>
              <a:off x="1835280" y="1773360"/>
              <a:ext cx="1944720" cy="7189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6666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39240" y="1773360"/>
              <a:ext cx="1966680" cy="642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gui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Kommandozeile)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2411280" y="1989000"/>
            <a:ext cx="259236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4365720"/>
            <a:ext cx="216000" cy="863640"/>
          </a:xfrm>
          <a:custGeom>
            <a:avLst/>
            <a:gdLst/>
            <a:ahLst/>
            <a:rect l="l" t="t" r="r" b="b"/>
            <a:pathLst>
              <a:path w="136" h="499">
                <a:moveTo>
                  <a:pt x="0" y="0"/>
                </a:moveTo>
                <a:lnTo>
                  <a:pt x="0" y="363"/>
                </a:lnTo>
                <a:lnTo>
                  <a:pt x="136" y="499"/>
                </a:lnTo>
              </a:path>
            </a:pathLst>
          </a:custGeom>
          <a:noFill/>
          <a:ln w="22320">
            <a:solidFill>
              <a:srgbClr val="000000"/>
            </a:solidFill>
            <a:round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059640" y="5661000"/>
            <a:ext cx="250200" cy="971640"/>
            <a:chOff x="3059640" y="5661000"/>
            <a:chExt cx="250200" cy="971640"/>
          </a:xfrm>
        </p:grpSpPr>
        <p:sp>
          <p:nvSpPr>
            <p:cNvPr id="226" name=""/>
            <p:cNvSpPr/>
            <p:nvPr/>
          </p:nvSpPr>
          <p:spPr>
            <a:xfrm flipH="1">
              <a:off x="3059640" y="5661000"/>
              <a:ext cx="250200" cy="132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3059640" y="5925960"/>
              <a:ext cx="250200" cy="43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3059640" y="6145920"/>
              <a:ext cx="250200" cy="1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3059640" y="6323400"/>
              <a:ext cx="250200" cy="435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3059640" y="6500160"/>
              <a:ext cx="250200" cy="132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5940360" y="2349360"/>
            <a:ext cx="1656000" cy="648000"/>
          </a:xfrm>
          <a:custGeom>
            <a:avLst/>
            <a:gdLst/>
            <a:ahLst/>
            <a:rect l="l" t="t" r="r" b="b"/>
            <a:pathLst>
              <a:path w="1043" h="408">
                <a:moveTo>
                  <a:pt x="0" y="0"/>
                </a:moveTo>
                <a:lnTo>
                  <a:pt x="726" y="0"/>
                </a:lnTo>
                <a:lnTo>
                  <a:pt x="1043" y="408"/>
                </a:lnTo>
              </a:path>
            </a:pathLst>
          </a:custGeom>
          <a:noFill/>
          <a:ln w="22320">
            <a:solidFill>
              <a:srgbClr val="000000"/>
            </a:solidFill>
            <a:round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16720" y="3716280"/>
            <a:ext cx="1079640" cy="576360"/>
          </a:xfrm>
          <a:custGeom>
            <a:avLst/>
            <a:gdLst/>
            <a:ahLst/>
            <a:rect l="l" t="t" r="r" b="b"/>
            <a:pathLst>
              <a:path w="680" h="363">
                <a:moveTo>
                  <a:pt x="0" y="363"/>
                </a:moveTo>
                <a:lnTo>
                  <a:pt x="408" y="363"/>
                </a:lnTo>
                <a:lnTo>
                  <a:pt x="680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24360" y="249228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96000" y="4437000"/>
            <a:ext cx="0" cy="287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44000" y="2349360"/>
            <a:ext cx="0" cy="574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244720" y="5373720"/>
            <a:ext cx="67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Date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68720" y="63086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43280" y="4581360"/>
            <a:ext cx="12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Berechnun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132360" y="765000"/>
            <a:ext cx="8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Eingab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1C1F-02F3-4B7C-AC28-E488512E7CE8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401692-1F08-42F8-B6D2-2A88A315BD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660066"/>
                </a:solidFill>
                <a:latin typeface="AvantGarde Md BT"/>
              </a:rPr>
              <a:t>Bufferlo</a:t>
            </a:r>
            <a:br>
              <a:rPr sz="4000"/>
            </a:br>
            <a:r>
              <a:rPr b="1" lang="de-DE" sz="2400" spc="-1" strike="noStrike">
                <a:solidFill>
                  <a:srgbClr val="660066"/>
                </a:solidFill>
                <a:latin typeface="AvantGarde Md BT"/>
              </a:rPr>
              <a:t>Tool zur Beschreibung von Raumausdrücken</a:t>
            </a:r>
            <a:endParaRPr b="0" lang="en-US" sz="24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gangside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umausdrücke erzeugen Flä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gramm soll Flächen an geometrisc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bjekten erzeugen, die diese Raumausdrüc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präsentie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F3D3-4DA0-45DA-BDE6-397149827E9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638F5B-ED30-4074-8669-8DAD791699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660066"/>
                </a:solidFill>
                <a:latin typeface="AvantGarde Md BT"/>
              </a:rPr>
              <a:t>Einteilung der Präpositionen</a:t>
            </a:r>
            <a:endParaRPr b="0" lang="en-US" sz="38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ynam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...entlang, auf (Akk.), auf...zu, aus...heraus, durch, entlang, herauf, herunter, hinunter, hinauf, in (Akk.), über (Akk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t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, auf (Dat.), außerhalb, bei, gegenüber, im Zentrum, in (Dat.), in der Mitte, innerhalb, links, nahe, neben, nördlich, westlich, südlich, östlich, über (Dat.), um...herum, unter, unterhalb, vor, zwis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73CF-A4D6-43D6-921B-628E9D5D7A8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7F565F-8122-480E-9C99-A4A5E46336D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660066"/>
                </a:solidFill>
                <a:latin typeface="AvantGarde Md BT"/>
              </a:rPr>
              <a:t>Unterschiedliche Sichtweisen</a:t>
            </a:r>
            <a:endParaRPr b="0" lang="en-US" sz="34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ur bei statischen Präposition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iktisch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trinsis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o-glob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iele Präpositionen (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links, vor, neben, …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) erlauben sowohl eine deiktische als auch intrinsische Sichtwe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CE0D-6A55-43E3-8C95-614609FAB8B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31D82F-BD66-4965-8D7E-B5545C79DF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660066"/>
                </a:solidFill>
                <a:latin typeface="AvantGarde Md BT"/>
              </a:rPr>
              <a:t>Modifikatoren</a:t>
            </a:r>
            <a:endParaRPr b="0" lang="en-US" sz="38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Modifikator schränkt den Geltungsbereich einer Präposition e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 der horizontalen Achse: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links, rec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 der vertikalen Achse: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ben, u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 der Tiefenachse: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hinten, vorn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chrä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recht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können auch als eigenständige Präpositionen verwendet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3FF1-DE85-46AB-9BCE-DC8C8587B11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BEEA28-DC4F-4473-BBE6-B8153FD6DA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660066"/>
                </a:solidFill>
                <a:latin typeface="AvantGarde Md BT"/>
              </a:rPr>
              <a:t>Aufteilung der Präps in Flächentypen</a:t>
            </a:r>
            <a:endParaRPr b="0" lang="en-US" sz="32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Fläche(n) an einem Objekt (z.B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neb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Fläche zwischen zwei Objekten (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zwisch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Ringfläche (z.B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be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Fläche innerhalb von Objektgrenzen (z.B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Linie (z.B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auf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 Seitenansich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mbinationen: z.B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durch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DA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EF65-345D-492A-9139-80266D0150E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698C01-8468-42B6-AF14-25968982A0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660066"/>
                </a:solidFill>
                <a:latin typeface="AvantGarde Md BT"/>
              </a:rPr>
              <a:t>Inhalt</a:t>
            </a: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b2b2b2"/>
                </a:solidFill>
                <a:latin typeface="Arial"/>
              </a:rPr>
              <a:t>Linguistische Vorüberleg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unktionsweise von Buffer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0c0c0"/>
                </a:solidFill>
                <a:latin typeface="Arial"/>
              </a:rPr>
              <a:t>Programm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0c0c0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98D2-AD72-4755-A116-CC8ECDED0A4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1E65EF-0452-4A14-AE18-2AE33557DE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480" y="834120"/>
            <a:ext cx="79862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660066"/>
                </a:solidFill>
                <a:latin typeface="AvantGarde Md BT"/>
              </a:rPr>
              <a:t>Datenquellen</a:t>
            </a:r>
            <a:endParaRPr b="0" lang="en-US" sz="3600" spc="-1" strike="noStrike">
              <a:solidFill>
                <a:srgbClr val="660066"/>
              </a:solidFill>
              <a:latin typeface="AvantGarde Md BT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nötigt werden folgende Datenquel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äpositionsdaten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bjektdaten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m Augenblick werden XML-Dateien verwendet, Bufferlo ist jedoch format-unabhäng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fferl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9D03-5E59-4AE5-B0BD-30149F40673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76BBA1-4AF6-4782-B9AA-70E43BE613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9T15:37:44Z</dcterms:created>
  <dc:creator>Suzanne</dc:creator>
  <dc:description/>
  <dc:language>en-US</dc:language>
  <cp:lastModifiedBy>Thorsten Reichelt</cp:lastModifiedBy>
  <dcterms:modified xsi:type="dcterms:W3CDTF">2003-11-12T14:16:52Z</dcterms:modified>
  <cp:revision>72</cp:revision>
  <dc:subject/>
  <dc:title>Bufferlo</dc:title>
</cp:coreProperties>
</file>